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D1-4F0C-41F9-9DBB-CDDF22C1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438-B0CF-4562-9550-5EC0C94B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F5D-BC4F-4155-82B6-178AA9C6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D11-A798-4270-9484-EC98F6E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ECB-7815-4275-905B-AA2D90C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159-EE15-47B7-910A-8FB1C82C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6B6-E398-46F5-BDA3-1B0CBCE9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715-C0DE-46A3-A4E6-9F13136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A0E-7EA4-4273-851D-8863A3AF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671-A965-4533-BABE-CFCD2FD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25-037E-4679-8AC1-CDE7132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EE3-6C94-4CB7-86BB-B2AD3987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F16E-605A-4EC8-B631-8EB47286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tabl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9480" y="1676520"/>
          <a:ext cx="7925040" cy="4524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 Form (Lo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or Power form (symbo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x8x8x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u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276800" y="3160800"/>
            <a:ext cx="420480" cy="447480"/>
          </a:xfrm>
          <a:custGeom>
            <a:avLst/>
            <a:gdLst/>
            <a:ahLst/>
            <a:rect l="l" t="t" r="r" b="b"/>
            <a:pathLst>
              <a:path w="1167" h="1241">
                <a:moveTo>
                  <a:pt x="12477" y="9203"/>
                </a:moveTo>
                <a:cubicBezTo>
                  <a:pt x="12395" y="9039"/>
                  <a:pt x="12233" y="9097"/>
                  <a:pt x="12080" y="9153"/>
                </a:cubicBezTo>
                <a:cubicBezTo>
                  <a:pt x="11947" y="9219"/>
                  <a:pt x="11906" y="9227"/>
                  <a:pt x="11881" y="9327"/>
                </a:cubicBezTo>
                <a:cubicBezTo>
                  <a:pt x="12022" y="9484"/>
                  <a:pt x="12249" y="9512"/>
                  <a:pt x="12378" y="9699"/>
                </a:cubicBezTo>
                <a:cubicBezTo>
                  <a:pt x="12477" y="9842"/>
                  <a:pt x="12432" y="9923"/>
                  <a:pt x="12353" y="10021"/>
                </a:cubicBezTo>
                <a:cubicBezTo>
                  <a:pt x="12160" y="9983"/>
                  <a:pt x="12107" y="9874"/>
                  <a:pt x="12204" y="9674"/>
                </a:cubicBezTo>
                <a:cubicBezTo>
                  <a:pt x="12262" y="9555"/>
                  <a:pt x="12408" y="9451"/>
                  <a:pt x="12427" y="9327"/>
                </a:cubicBezTo>
                <a:cubicBezTo>
                  <a:pt x="12434" y="9279"/>
                  <a:pt x="12442" y="9268"/>
                  <a:pt x="12452" y="9227"/>
                </a:cubicBezTo>
              </a:path>
              <a:path w="1167" h="1241">
                <a:moveTo>
                  <a:pt x="12799" y="8880"/>
                </a:moveTo>
                <a:cubicBezTo>
                  <a:pt x="12799" y="8933"/>
                  <a:pt x="12783" y="8978"/>
                  <a:pt x="12774" y="9029"/>
                </a:cubicBezTo>
                <a:cubicBezTo>
                  <a:pt x="12870" y="9029"/>
                  <a:pt x="12960" y="9042"/>
                  <a:pt x="13047" y="9004"/>
                </a:cubicBezTo>
              </a:path>
              <a:path w="1167" h="1241">
                <a:moveTo>
                  <a:pt x="13047" y="8781"/>
                </a:moveTo>
                <a:cubicBezTo>
                  <a:pt x="13002" y="8915"/>
                  <a:pt x="13003" y="9100"/>
                  <a:pt x="12998" y="9252"/>
                </a:cubicBezTo>
                <a:cubicBezTo>
                  <a:pt x="12998" y="9260"/>
                  <a:pt x="12998" y="9269"/>
                  <a:pt x="1299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6720" y="3384720"/>
            <a:ext cx="187200" cy="142560"/>
          </a:xfrm>
          <a:custGeom>
            <a:avLst/>
            <a:gdLst/>
            <a:ahLst/>
            <a:rect l="l" t="t" r="r" b="b"/>
            <a:pathLst>
              <a:path w="521" h="398">
                <a:moveTo>
                  <a:pt x="19124" y="9475"/>
                </a:moveTo>
                <a:cubicBezTo>
                  <a:pt x="19146" y="9589"/>
                  <a:pt x="19206" y="9722"/>
                  <a:pt x="19149" y="9798"/>
                </a:cubicBezTo>
              </a:path>
              <a:path w="521" h="398">
                <a:moveTo>
                  <a:pt x="18852" y="9525"/>
                </a:moveTo>
                <a:cubicBezTo>
                  <a:pt x="19106" y="9545"/>
                  <a:pt x="19149" y="9524"/>
                  <a:pt x="19372" y="9401"/>
                </a:cubicBezTo>
              </a:path>
              <a:path w="521" h="398">
                <a:moveTo>
                  <a:pt x="19372" y="9401"/>
                </a:moveTo>
                <a:lnTo>
                  <a:pt x="19372" y="94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9120" y="3330720"/>
            <a:ext cx="115920" cy="277560"/>
          </a:xfrm>
          <a:custGeom>
            <a:avLst/>
            <a:gdLst/>
            <a:ahLst/>
            <a:rect l="l" t="t" r="r" b="b"/>
            <a:pathLst>
              <a:path w="323" h="770">
                <a:moveTo>
                  <a:pt x="17214" y="9277"/>
                </a:moveTo>
                <a:cubicBezTo>
                  <a:pt x="17092" y="9240"/>
                  <a:pt x="17070" y="9261"/>
                  <a:pt x="16942" y="9302"/>
                </a:cubicBezTo>
                <a:cubicBezTo>
                  <a:pt x="16994" y="9510"/>
                  <a:pt x="17255" y="9644"/>
                  <a:pt x="17264" y="9872"/>
                </a:cubicBezTo>
                <a:cubicBezTo>
                  <a:pt x="17218" y="9986"/>
                  <a:pt x="17211" y="10025"/>
                  <a:pt x="17115" y="10021"/>
                </a:cubicBezTo>
                <a:cubicBezTo>
                  <a:pt x="17015" y="9802"/>
                  <a:pt x="17139" y="9643"/>
                  <a:pt x="17239" y="9426"/>
                </a:cubicBezTo>
                <a:cubicBezTo>
                  <a:pt x="17273" y="9353"/>
                  <a:pt x="17252" y="9377"/>
                  <a:pt x="17165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9240" y="3313080"/>
            <a:ext cx="258840" cy="223920"/>
          </a:xfrm>
          <a:custGeom>
            <a:avLst/>
            <a:gdLst/>
            <a:ahLst/>
            <a:rect l="l" t="t" r="r" b="b"/>
            <a:pathLst>
              <a:path w="721" h="621">
                <a:moveTo>
                  <a:pt x="17959" y="9203"/>
                </a:moveTo>
                <a:cubicBezTo>
                  <a:pt x="17999" y="9402"/>
                  <a:pt x="18040" y="9597"/>
                  <a:pt x="18058" y="9798"/>
                </a:cubicBezTo>
              </a:path>
              <a:path w="721" h="621">
                <a:moveTo>
                  <a:pt x="17859" y="9475"/>
                </a:moveTo>
                <a:cubicBezTo>
                  <a:pt x="18019" y="9452"/>
                  <a:pt x="18174" y="9421"/>
                  <a:pt x="18331" y="9401"/>
                </a:cubicBezTo>
                <a:cubicBezTo>
                  <a:pt x="18265" y="9582"/>
                  <a:pt x="18258" y="9659"/>
                  <a:pt x="18331" y="9823"/>
                </a:cubicBezTo>
                <a:cubicBezTo>
                  <a:pt x="18529" y="9744"/>
                  <a:pt x="18696" y="9649"/>
                  <a:pt x="18430" y="9500"/>
                </a:cubicBezTo>
                <a:cubicBezTo>
                  <a:pt x="18389" y="9484"/>
                  <a:pt x="18347" y="9467"/>
                  <a:pt x="18306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5640" y="3340080"/>
            <a:ext cx="411120" cy="169920"/>
          </a:xfrm>
          <a:custGeom>
            <a:avLst/>
            <a:gdLst/>
            <a:ahLst/>
            <a:rect l="l" t="t" r="r" b="b"/>
            <a:pathLst>
              <a:path w="1142" h="472">
                <a:moveTo>
                  <a:pt x="19348" y="9277"/>
                </a:moveTo>
                <a:cubicBezTo>
                  <a:pt x="19350" y="9355"/>
                  <a:pt x="19324" y="9698"/>
                  <a:pt x="19397" y="9674"/>
                </a:cubicBezTo>
                <a:cubicBezTo>
                  <a:pt x="19438" y="9560"/>
                  <a:pt x="19475" y="9459"/>
                  <a:pt x="19621" y="9525"/>
                </a:cubicBezTo>
                <a:cubicBezTo>
                  <a:pt x="19715" y="9567"/>
                  <a:pt x="19746" y="9672"/>
                  <a:pt x="19819" y="9723"/>
                </a:cubicBezTo>
                <a:cubicBezTo>
                  <a:pt x="19886" y="9770"/>
                  <a:pt x="19968" y="9729"/>
                  <a:pt x="20017" y="9674"/>
                </a:cubicBezTo>
                <a:cubicBezTo>
                  <a:pt x="20046" y="9641"/>
                  <a:pt x="20123" y="9529"/>
                  <a:pt x="20092" y="9475"/>
                </a:cubicBezTo>
                <a:cubicBezTo>
                  <a:pt x="20084" y="9467"/>
                  <a:pt x="20075" y="9459"/>
                  <a:pt x="20067" y="9451"/>
                </a:cubicBezTo>
                <a:cubicBezTo>
                  <a:pt x="19990" y="9418"/>
                  <a:pt x="19927" y="9421"/>
                  <a:pt x="19893" y="9525"/>
                </a:cubicBezTo>
                <a:cubicBezTo>
                  <a:pt x="19822" y="9743"/>
                  <a:pt x="20154" y="9643"/>
                  <a:pt x="20241" y="9624"/>
                </a:cubicBezTo>
              </a:path>
              <a:path w="1142" h="472">
                <a:moveTo>
                  <a:pt x="19100" y="9302"/>
                </a:moveTo>
                <a:cubicBezTo>
                  <a:pt x="19100" y="9219"/>
                  <a:pt x="19111" y="9418"/>
                  <a:pt x="19124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00960" y="3143160"/>
            <a:ext cx="465120" cy="357120"/>
          </a:xfrm>
          <a:custGeom>
            <a:avLst/>
            <a:gdLst/>
            <a:ahLst/>
            <a:rect l="l" t="t" r="r" b="b"/>
            <a:pathLst>
              <a:path w="1291" h="993">
                <a:moveTo>
                  <a:pt x="20886" y="9054"/>
                </a:moveTo>
                <a:cubicBezTo>
                  <a:pt x="20880" y="9167"/>
                  <a:pt x="20866" y="9266"/>
                  <a:pt x="20836" y="9376"/>
                </a:cubicBezTo>
                <a:cubicBezTo>
                  <a:pt x="20977" y="9402"/>
                  <a:pt x="21057" y="9361"/>
                  <a:pt x="21183" y="9277"/>
                </a:cubicBezTo>
              </a:path>
              <a:path w="1291" h="993">
                <a:moveTo>
                  <a:pt x="21134" y="9004"/>
                </a:moveTo>
                <a:cubicBezTo>
                  <a:pt x="21134" y="9192"/>
                  <a:pt x="21055" y="9550"/>
                  <a:pt x="21109" y="9723"/>
                </a:cubicBezTo>
                <a:cubicBezTo>
                  <a:pt x="21117" y="9723"/>
                  <a:pt x="21126" y="9723"/>
                  <a:pt x="21134" y="9723"/>
                </a:cubicBezTo>
              </a:path>
              <a:path w="1291" h="993">
                <a:moveTo>
                  <a:pt x="21481" y="8731"/>
                </a:moveTo>
                <a:cubicBezTo>
                  <a:pt x="21499" y="8899"/>
                  <a:pt x="21530" y="9056"/>
                  <a:pt x="21530" y="9227"/>
                </a:cubicBezTo>
              </a:path>
              <a:path w="1291" h="993">
                <a:moveTo>
                  <a:pt x="21307" y="9029"/>
                </a:moveTo>
                <a:cubicBezTo>
                  <a:pt x="21511" y="9097"/>
                  <a:pt x="21648" y="9021"/>
                  <a:pt x="21803" y="8855"/>
                </a:cubicBezTo>
                <a:cubicBezTo>
                  <a:pt x="21864" y="8789"/>
                  <a:pt x="21828" y="8881"/>
                  <a:pt x="21828" y="9029"/>
                </a:cubicBezTo>
                <a:cubicBezTo>
                  <a:pt x="21828" y="9079"/>
                  <a:pt x="21828" y="9128"/>
                  <a:pt x="21828" y="9178"/>
                </a:cubicBezTo>
                <a:cubicBezTo>
                  <a:pt x="21836" y="9186"/>
                  <a:pt x="21845" y="9195"/>
                  <a:pt x="21853" y="9203"/>
                </a:cubicBezTo>
                <a:cubicBezTo>
                  <a:pt x="21859" y="9167"/>
                  <a:pt x="21909" y="8903"/>
                  <a:pt x="21952" y="8930"/>
                </a:cubicBezTo>
                <a:cubicBezTo>
                  <a:pt x="22070" y="9004"/>
                  <a:pt x="22113" y="9124"/>
                  <a:pt x="22126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3616200"/>
            <a:ext cx="928440" cy="384480"/>
          </a:xfrm>
          <a:custGeom>
            <a:avLst/>
            <a:gdLst/>
            <a:ahLst/>
            <a:rect l="l" t="t" r="r" b="b"/>
            <a:pathLst>
              <a:path w="2580" h="1067">
                <a:moveTo>
                  <a:pt x="18703" y="10592"/>
                </a:moveTo>
                <a:cubicBezTo>
                  <a:pt x="18731" y="10749"/>
                  <a:pt x="18772" y="10902"/>
                  <a:pt x="18802" y="11063"/>
                </a:cubicBezTo>
                <a:cubicBezTo>
                  <a:pt x="18865" y="11145"/>
                  <a:pt x="18768" y="10749"/>
                  <a:pt x="18777" y="10666"/>
                </a:cubicBezTo>
                <a:cubicBezTo>
                  <a:pt x="18822" y="10489"/>
                  <a:pt x="18824" y="10438"/>
                  <a:pt x="18926" y="10368"/>
                </a:cubicBezTo>
                <a:cubicBezTo>
                  <a:pt x="19049" y="10455"/>
                  <a:pt x="19217" y="10602"/>
                  <a:pt x="18976" y="10691"/>
                </a:cubicBezTo>
                <a:cubicBezTo>
                  <a:pt x="18871" y="10730"/>
                  <a:pt x="18791" y="10722"/>
                  <a:pt x="18777" y="10666"/>
                </a:cubicBezTo>
              </a:path>
              <a:path w="2580" h="1067">
                <a:moveTo>
                  <a:pt x="19323" y="10368"/>
                </a:moveTo>
                <a:cubicBezTo>
                  <a:pt x="19220" y="10470"/>
                  <a:pt x="19237" y="10569"/>
                  <a:pt x="19298" y="10691"/>
                </a:cubicBezTo>
                <a:cubicBezTo>
                  <a:pt x="19438" y="10626"/>
                  <a:pt x="19577" y="10510"/>
                  <a:pt x="19397" y="10368"/>
                </a:cubicBezTo>
                <a:cubicBezTo>
                  <a:pt x="19372" y="10360"/>
                  <a:pt x="19348" y="10352"/>
                  <a:pt x="19323" y="10344"/>
                </a:cubicBezTo>
              </a:path>
              <a:path w="2580" h="1067">
                <a:moveTo>
                  <a:pt x="19621" y="10344"/>
                </a:moveTo>
                <a:cubicBezTo>
                  <a:pt x="19655" y="10405"/>
                  <a:pt x="19669" y="10574"/>
                  <a:pt x="19720" y="10592"/>
                </a:cubicBezTo>
                <a:cubicBezTo>
                  <a:pt x="19854" y="10640"/>
                  <a:pt x="19925" y="10411"/>
                  <a:pt x="19968" y="10344"/>
                </a:cubicBezTo>
                <a:cubicBezTo>
                  <a:pt x="19954" y="10428"/>
                  <a:pt x="19919" y="10600"/>
                  <a:pt x="20067" y="10592"/>
                </a:cubicBezTo>
                <a:cubicBezTo>
                  <a:pt x="20188" y="10585"/>
                  <a:pt x="20431" y="10312"/>
                  <a:pt x="20216" y="10294"/>
                </a:cubicBezTo>
                <a:cubicBezTo>
                  <a:pt x="20191" y="10302"/>
                  <a:pt x="20166" y="10311"/>
                  <a:pt x="20141" y="10319"/>
                </a:cubicBezTo>
              </a:path>
              <a:path w="2580" h="1067">
                <a:moveTo>
                  <a:pt x="20414" y="10319"/>
                </a:moveTo>
                <a:cubicBezTo>
                  <a:pt x="20516" y="10311"/>
                  <a:pt x="20602" y="10301"/>
                  <a:pt x="20687" y="10244"/>
                </a:cubicBezTo>
                <a:cubicBezTo>
                  <a:pt x="20582" y="10193"/>
                  <a:pt x="20444" y="10250"/>
                  <a:pt x="20365" y="10344"/>
                </a:cubicBezTo>
                <a:cubicBezTo>
                  <a:pt x="20158" y="10588"/>
                  <a:pt x="20756" y="10395"/>
                  <a:pt x="20762" y="10393"/>
                </a:cubicBezTo>
              </a:path>
              <a:path w="2580" h="1067">
                <a:moveTo>
                  <a:pt x="20935" y="10393"/>
                </a:moveTo>
                <a:cubicBezTo>
                  <a:pt x="20935" y="10456"/>
                  <a:pt x="20938" y="10210"/>
                  <a:pt x="20960" y="10170"/>
                </a:cubicBezTo>
                <a:cubicBezTo>
                  <a:pt x="21022" y="10060"/>
                  <a:pt x="21192" y="10048"/>
                  <a:pt x="21282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9120" y="4214880"/>
            <a:ext cx="1731960" cy="384120"/>
          </a:xfrm>
          <a:custGeom>
            <a:avLst/>
            <a:gdLst/>
            <a:ahLst/>
            <a:rect l="l" t="t" r="r" b="b"/>
            <a:pathLst>
              <a:path w="4813" h="1067">
                <a:moveTo>
                  <a:pt x="17413" y="12353"/>
                </a:moveTo>
                <a:cubicBezTo>
                  <a:pt x="17352" y="12292"/>
                  <a:pt x="17295" y="12215"/>
                  <a:pt x="17214" y="12179"/>
                </a:cubicBezTo>
                <a:cubicBezTo>
                  <a:pt x="17069" y="12115"/>
                  <a:pt x="16903" y="12204"/>
                  <a:pt x="16942" y="12378"/>
                </a:cubicBezTo>
                <a:cubicBezTo>
                  <a:pt x="16958" y="12403"/>
                  <a:pt x="16975" y="12427"/>
                  <a:pt x="16991" y="12452"/>
                </a:cubicBezTo>
                <a:cubicBezTo>
                  <a:pt x="17159" y="12389"/>
                  <a:pt x="17202" y="12316"/>
                  <a:pt x="17314" y="12179"/>
                </a:cubicBezTo>
                <a:cubicBezTo>
                  <a:pt x="17314" y="12365"/>
                  <a:pt x="17323" y="12540"/>
                  <a:pt x="17314" y="12725"/>
                </a:cubicBezTo>
                <a:cubicBezTo>
                  <a:pt x="17314" y="12776"/>
                  <a:pt x="17316" y="12791"/>
                  <a:pt x="17363" y="12750"/>
                </a:cubicBezTo>
              </a:path>
              <a:path w="4813" h="1067">
                <a:moveTo>
                  <a:pt x="18008" y="12179"/>
                </a:moveTo>
                <a:cubicBezTo>
                  <a:pt x="18029" y="12379"/>
                  <a:pt x="18054" y="12577"/>
                  <a:pt x="18083" y="12774"/>
                </a:cubicBezTo>
              </a:path>
              <a:path w="4813" h="1067">
                <a:moveTo>
                  <a:pt x="17785" y="12378"/>
                </a:moveTo>
                <a:cubicBezTo>
                  <a:pt x="17951" y="12340"/>
                  <a:pt x="18114" y="12298"/>
                  <a:pt x="18281" y="12278"/>
                </a:cubicBezTo>
                <a:cubicBezTo>
                  <a:pt x="18259" y="12399"/>
                  <a:pt x="18159" y="12596"/>
                  <a:pt x="18355" y="12650"/>
                </a:cubicBezTo>
                <a:cubicBezTo>
                  <a:pt x="18388" y="12642"/>
                  <a:pt x="18422" y="12634"/>
                  <a:pt x="18455" y="12626"/>
                </a:cubicBezTo>
                <a:cubicBezTo>
                  <a:pt x="18510" y="12412"/>
                  <a:pt x="18489" y="12416"/>
                  <a:pt x="18306" y="12303"/>
                </a:cubicBezTo>
              </a:path>
              <a:path w="4813" h="1067">
                <a:moveTo>
                  <a:pt x="19050" y="12154"/>
                </a:moveTo>
                <a:cubicBezTo>
                  <a:pt x="19052" y="12232"/>
                  <a:pt x="19012" y="12749"/>
                  <a:pt x="19100" y="12576"/>
                </a:cubicBezTo>
              </a:path>
              <a:path w="4813" h="1067">
                <a:moveTo>
                  <a:pt x="18703" y="12328"/>
                </a:moveTo>
                <a:cubicBezTo>
                  <a:pt x="18908" y="12399"/>
                  <a:pt x="19167" y="12494"/>
                  <a:pt x="19248" y="12204"/>
                </a:cubicBezTo>
                <a:cubicBezTo>
                  <a:pt x="19248" y="12113"/>
                  <a:pt x="19248" y="12039"/>
                  <a:pt x="19248" y="12105"/>
                </a:cubicBezTo>
                <a:cubicBezTo>
                  <a:pt x="19253" y="12255"/>
                  <a:pt x="19264" y="12402"/>
                  <a:pt x="19273" y="12551"/>
                </a:cubicBezTo>
                <a:cubicBezTo>
                  <a:pt x="19280" y="12511"/>
                  <a:pt x="19287" y="12296"/>
                  <a:pt x="19348" y="12303"/>
                </a:cubicBezTo>
                <a:cubicBezTo>
                  <a:pt x="19455" y="12315"/>
                  <a:pt x="19467" y="12533"/>
                  <a:pt x="19571" y="12551"/>
                </a:cubicBezTo>
                <a:cubicBezTo>
                  <a:pt x="19742" y="12580"/>
                  <a:pt x="19744" y="12352"/>
                  <a:pt x="19769" y="12254"/>
                </a:cubicBezTo>
                <a:cubicBezTo>
                  <a:pt x="19738" y="12297"/>
                  <a:pt x="19557" y="12486"/>
                  <a:pt x="19745" y="12526"/>
                </a:cubicBezTo>
                <a:cubicBezTo>
                  <a:pt x="19803" y="12518"/>
                  <a:pt x="19860" y="12510"/>
                  <a:pt x="19918" y="12502"/>
                </a:cubicBezTo>
              </a:path>
              <a:path w="4813" h="1067">
                <a:moveTo>
                  <a:pt x="20588" y="11956"/>
                </a:moveTo>
                <a:cubicBezTo>
                  <a:pt x="20522" y="11976"/>
                  <a:pt x="20427" y="11991"/>
                  <a:pt x="20414" y="12080"/>
                </a:cubicBezTo>
                <a:cubicBezTo>
                  <a:pt x="20414" y="12113"/>
                  <a:pt x="20414" y="12146"/>
                  <a:pt x="20414" y="12179"/>
                </a:cubicBezTo>
                <a:cubicBezTo>
                  <a:pt x="20577" y="12179"/>
                  <a:pt x="20706" y="12188"/>
                  <a:pt x="20861" y="12229"/>
                </a:cubicBezTo>
                <a:cubicBezTo>
                  <a:pt x="20824" y="12386"/>
                  <a:pt x="20640" y="12643"/>
                  <a:pt x="20414" y="12502"/>
                </a:cubicBezTo>
                <a:cubicBezTo>
                  <a:pt x="20389" y="12452"/>
                  <a:pt x="20365" y="12403"/>
                  <a:pt x="20340" y="12353"/>
                </a:cubicBezTo>
              </a:path>
              <a:path w="4813" h="1067">
                <a:moveTo>
                  <a:pt x="21084" y="11708"/>
                </a:moveTo>
                <a:cubicBezTo>
                  <a:pt x="21098" y="11868"/>
                  <a:pt x="21113" y="12037"/>
                  <a:pt x="21183" y="12179"/>
                </a:cubicBezTo>
              </a:path>
              <a:path w="4813" h="1067">
                <a:moveTo>
                  <a:pt x="20886" y="11906"/>
                </a:moveTo>
                <a:cubicBezTo>
                  <a:pt x="21099" y="11966"/>
                  <a:pt x="21162" y="11931"/>
                  <a:pt x="21307" y="11757"/>
                </a:cubicBezTo>
                <a:cubicBezTo>
                  <a:pt x="21307" y="11859"/>
                  <a:pt x="21323" y="11954"/>
                  <a:pt x="21332" y="12055"/>
                </a:cubicBezTo>
                <a:cubicBezTo>
                  <a:pt x="21349" y="11972"/>
                  <a:pt x="21357" y="11905"/>
                  <a:pt x="21431" y="11881"/>
                </a:cubicBezTo>
                <a:cubicBezTo>
                  <a:pt x="21614" y="11821"/>
                  <a:pt x="21668" y="11942"/>
                  <a:pt x="21729" y="12080"/>
                </a:cubicBezTo>
                <a:cubicBezTo>
                  <a:pt x="21737" y="12096"/>
                  <a:pt x="21746" y="12113"/>
                  <a:pt x="21754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50000" y="4680000"/>
            <a:ext cx="938160" cy="347760"/>
          </a:xfrm>
          <a:custGeom>
            <a:avLst/>
            <a:gdLst/>
            <a:ahLst/>
            <a:rect l="l" t="t" r="r" b="b"/>
            <a:pathLst>
              <a:path w="2606" h="968">
                <a:moveTo>
                  <a:pt x="18901" y="13444"/>
                </a:moveTo>
                <a:cubicBezTo>
                  <a:pt x="18906" y="13619"/>
                  <a:pt x="18917" y="13790"/>
                  <a:pt x="18926" y="13965"/>
                </a:cubicBezTo>
                <a:cubicBezTo>
                  <a:pt x="18828" y="13808"/>
                  <a:pt x="18721" y="13535"/>
                  <a:pt x="18752" y="13345"/>
                </a:cubicBezTo>
                <a:cubicBezTo>
                  <a:pt x="18795" y="13088"/>
                  <a:pt x="19064" y="13338"/>
                  <a:pt x="19149" y="13395"/>
                </a:cubicBezTo>
                <a:cubicBezTo>
                  <a:pt x="19109" y="13454"/>
                  <a:pt x="18720" y="13660"/>
                  <a:pt x="18752" y="13494"/>
                </a:cubicBezTo>
                <a:cubicBezTo>
                  <a:pt x="18785" y="13469"/>
                  <a:pt x="18819" y="13444"/>
                  <a:pt x="18852" y="13419"/>
                </a:cubicBezTo>
              </a:path>
              <a:path w="2606" h="968">
                <a:moveTo>
                  <a:pt x="19372" y="13221"/>
                </a:moveTo>
                <a:cubicBezTo>
                  <a:pt x="19318" y="13265"/>
                  <a:pt x="19228" y="13468"/>
                  <a:pt x="19323" y="13543"/>
                </a:cubicBezTo>
                <a:cubicBezTo>
                  <a:pt x="19492" y="13675"/>
                  <a:pt x="19617" y="13380"/>
                  <a:pt x="19496" y="13271"/>
                </a:cubicBezTo>
                <a:cubicBezTo>
                  <a:pt x="19455" y="13254"/>
                  <a:pt x="19413" y="13238"/>
                  <a:pt x="19372" y="13221"/>
                </a:cubicBezTo>
              </a:path>
              <a:path w="2606" h="968">
                <a:moveTo>
                  <a:pt x="19695" y="13295"/>
                </a:moveTo>
                <a:cubicBezTo>
                  <a:pt x="19726" y="13370"/>
                  <a:pt x="19802" y="13597"/>
                  <a:pt x="19918" y="13419"/>
                </a:cubicBezTo>
                <a:cubicBezTo>
                  <a:pt x="19926" y="13386"/>
                  <a:pt x="19935" y="13353"/>
                  <a:pt x="19943" y="13320"/>
                </a:cubicBezTo>
                <a:cubicBezTo>
                  <a:pt x="20015" y="13214"/>
                  <a:pt x="19879" y="13541"/>
                  <a:pt x="20092" y="13519"/>
                </a:cubicBezTo>
                <a:cubicBezTo>
                  <a:pt x="20249" y="13503"/>
                  <a:pt x="20356" y="13280"/>
                  <a:pt x="20241" y="13171"/>
                </a:cubicBezTo>
                <a:cubicBezTo>
                  <a:pt x="20224" y="13163"/>
                  <a:pt x="20208" y="13154"/>
                  <a:pt x="20191" y="13146"/>
                </a:cubicBezTo>
              </a:path>
              <a:path w="2606" h="968">
                <a:moveTo>
                  <a:pt x="20439" y="13246"/>
                </a:moveTo>
                <a:cubicBezTo>
                  <a:pt x="20531" y="13223"/>
                  <a:pt x="20556" y="13217"/>
                  <a:pt x="20613" y="13196"/>
                </a:cubicBezTo>
                <a:cubicBezTo>
                  <a:pt x="20588" y="13070"/>
                  <a:pt x="20546" y="13119"/>
                  <a:pt x="20489" y="13246"/>
                </a:cubicBezTo>
                <a:cubicBezTo>
                  <a:pt x="20444" y="13380"/>
                  <a:pt x="20420" y="13416"/>
                  <a:pt x="20489" y="13494"/>
                </a:cubicBezTo>
                <a:cubicBezTo>
                  <a:pt x="20689" y="13483"/>
                  <a:pt x="20783" y="13103"/>
                  <a:pt x="20960" y="13196"/>
                </a:cubicBezTo>
                <a:cubicBezTo>
                  <a:pt x="20980" y="13297"/>
                  <a:pt x="20978" y="13317"/>
                  <a:pt x="21010" y="13370"/>
                </a:cubicBezTo>
                <a:cubicBezTo>
                  <a:pt x="21010" y="13202"/>
                  <a:pt x="20993" y="13099"/>
                  <a:pt x="21158" y="13022"/>
                </a:cubicBezTo>
                <a:cubicBezTo>
                  <a:pt x="21258" y="12998"/>
                  <a:pt x="21291" y="12990"/>
                  <a:pt x="21357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4510080"/>
            <a:ext cx="768240" cy="160200"/>
          </a:xfrm>
          <a:custGeom>
            <a:avLst/>
            <a:gdLst/>
            <a:ahLst/>
            <a:rect l="l" t="t" r="r" b="b"/>
            <a:pathLst>
              <a:path w="2134" h="448">
                <a:moveTo>
                  <a:pt x="3497" y="12626"/>
                </a:moveTo>
                <a:cubicBezTo>
                  <a:pt x="3559" y="12744"/>
                  <a:pt x="3612" y="12846"/>
                  <a:pt x="3696" y="12948"/>
                </a:cubicBezTo>
              </a:path>
              <a:path w="2134" h="448">
                <a:moveTo>
                  <a:pt x="3671" y="12526"/>
                </a:moveTo>
                <a:cubicBezTo>
                  <a:pt x="3632" y="12619"/>
                  <a:pt x="3461" y="12916"/>
                  <a:pt x="3497" y="12973"/>
                </a:cubicBezTo>
              </a:path>
              <a:path w="2134" h="448">
                <a:moveTo>
                  <a:pt x="4366" y="12551"/>
                </a:moveTo>
                <a:cubicBezTo>
                  <a:pt x="4388" y="12603"/>
                  <a:pt x="4513" y="12930"/>
                  <a:pt x="4589" y="12898"/>
                </a:cubicBezTo>
                <a:cubicBezTo>
                  <a:pt x="4622" y="12865"/>
                  <a:pt x="4655" y="12832"/>
                  <a:pt x="4688" y="12799"/>
                </a:cubicBezTo>
              </a:path>
              <a:path w="2134" h="448">
                <a:moveTo>
                  <a:pt x="5383" y="12601"/>
                </a:moveTo>
                <a:cubicBezTo>
                  <a:pt x="5403" y="12682"/>
                  <a:pt x="5458" y="12893"/>
                  <a:pt x="5556" y="12923"/>
                </a:cubicBezTo>
                <a:cubicBezTo>
                  <a:pt x="5573" y="12915"/>
                  <a:pt x="5589" y="12906"/>
                  <a:pt x="560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4720" y="4438800"/>
            <a:ext cx="169560" cy="268200"/>
          </a:xfrm>
          <a:custGeom>
            <a:avLst/>
            <a:gdLst/>
            <a:ahLst/>
            <a:rect l="l" t="t" r="r" b="b"/>
            <a:pathLst>
              <a:path w="472" h="745">
                <a:moveTo>
                  <a:pt x="3349" y="12477"/>
                </a:moveTo>
                <a:cubicBezTo>
                  <a:pt x="3348" y="12451"/>
                  <a:pt x="3206" y="12299"/>
                  <a:pt x="3101" y="12328"/>
                </a:cubicBezTo>
                <a:cubicBezTo>
                  <a:pt x="2891" y="12386"/>
                  <a:pt x="2881" y="12634"/>
                  <a:pt x="2952" y="12774"/>
                </a:cubicBezTo>
                <a:cubicBezTo>
                  <a:pt x="3120" y="12716"/>
                  <a:pt x="3199" y="12603"/>
                  <a:pt x="3249" y="12551"/>
                </a:cubicBezTo>
                <a:cubicBezTo>
                  <a:pt x="3293" y="12698"/>
                  <a:pt x="3227" y="12958"/>
                  <a:pt x="3274" y="13072"/>
                </a:cubicBezTo>
                <a:cubicBezTo>
                  <a:pt x="3282" y="13055"/>
                  <a:pt x="3291" y="13039"/>
                  <a:pt x="329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84200" y="4446720"/>
            <a:ext cx="1251000" cy="268200"/>
          </a:xfrm>
          <a:custGeom>
            <a:avLst/>
            <a:gdLst/>
            <a:ahLst/>
            <a:rect l="l" t="t" r="r" b="b"/>
            <a:pathLst>
              <a:path w="3473" h="745">
                <a:moveTo>
                  <a:pt x="4118" y="12526"/>
                </a:moveTo>
                <a:cubicBezTo>
                  <a:pt x="4118" y="12468"/>
                  <a:pt x="4107" y="12431"/>
                  <a:pt x="4068" y="12402"/>
                </a:cubicBezTo>
                <a:cubicBezTo>
                  <a:pt x="4040" y="12422"/>
                  <a:pt x="3700" y="12741"/>
                  <a:pt x="3894" y="12725"/>
                </a:cubicBezTo>
                <a:cubicBezTo>
                  <a:pt x="4013" y="12666"/>
                  <a:pt x="4061" y="12634"/>
                  <a:pt x="4118" y="12551"/>
                </a:cubicBezTo>
                <a:cubicBezTo>
                  <a:pt x="4134" y="12526"/>
                  <a:pt x="4151" y="12502"/>
                  <a:pt x="4167" y="12477"/>
                </a:cubicBezTo>
                <a:cubicBezTo>
                  <a:pt x="4148" y="12681"/>
                  <a:pt x="4105" y="12869"/>
                  <a:pt x="4093" y="13072"/>
                </a:cubicBezTo>
                <a:cubicBezTo>
                  <a:pt x="4093" y="13124"/>
                  <a:pt x="4112" y="13113"/>
                  <a:pt x="4167" y="13022"/>
                </a:cubicBezTo>
              </a:path>
              <a:path w="3473" h="745">
                <a:moveTo>
                  <a:pt x="4539" y="12626"/>
                </a:moveTo>
                <a:cubicBezTo>
                  <a:pt x="4494" y="12703"/>
                  <a:pt x="4247" y="13021"/>
                  <a:pt x="4440" y="12923"/>
                </a:cubicBezTo>
              </a:path>
              <a:path w="3473" h="745">
                <a:moveTo>
                  <a:pt x="5135" y="12452"/>
                </a:moveTo>
                <a:cubicBezTo>
                  <a:pt x="5080" y="12434"/>
                  <a:pt x="5044" y="12335"/>
                  <a:pt x="4936" y="12427"/>
                </a:cubicBezTo>
                <a:cubicBezTo>
                  <a:pt x="4873" y="12532"/>
                  <a:pt x="4855" y="12553"/>
                  <a:pt x="4837" y="12626"/>
                </a:cubicBezTo>
                <a:cubicBezTo>
                  <a:pt x="4998" y="12599"/>
                  <a:pt x="5041" y="12544"/>
                  <a:pt x="5159" y="12452"/>
                </a:cubicBezTo>
                <a:cubicBezTo>
                  <a:pt x="5132" y="12563"/>
                  <a:pt x="5108" y="12701"/>
                  <a:pt x="5085" y="12824"/>
                </a:cubicBezTo>
                <a:cubicBezTo>
                  <a:pt x="5082" y="12839"/>
                  <a:pt x="4983" y="13124"/>
                  <a:pt x="5060" y="12998"/>
                </a:cubicBezTo>
              </a:path>
              <a:path w="3473" h="745">
                <a:moveTo>
                  <a:pt x="5606" y="12601"/>
                </a:moveTo>
                <a:cubicBezTo>
                  <a:pt x="5545" y="12707"/>
                  <a:pt x="5256" y="13047"/>
                  <a:pt x="5432" y="12973"/>
                </a:cubicBezTo>
              </a:path>
              <a:path w="3473" h="745">
                <a:moveTo>
                  <a:pt x="6226" y="12526"/>
                </a:moveTo>
                <a:cubicBezTo>
                  <a:pt x="6186" y="12428"/>
                  <a:pt x="6106" y="12366"/>
                  <a:pt x="6003" y="12452"/>
                </a:cubicBezTo>
                <a:cubicBezTo>
                  <a:pt x="5911" y="12568"/>
                  <a:pt x="5880" y="12598"/>
                  <a:pt x="5879" y="12700"/>
                </a:cubicBezTo>
                <a:cubicBezTo>
                  <a:pt x="6007" y="12700"/>
                  <a:pt x="6060" y="12638"/>
                  <a:pt x="6176" y="12551"/>
                </a:cubicBezTo>
                <a:cubicBezTo>
                  <a:pt x="6193" y="12543"/>
                  <a:pt x="6209" y="12534"/>
                  <a:pt x="6226" y="12526"/>
                </a:cubicBezTo>
                <a:cubicBezTo>
                  <a:pt x="6189" y="12691"/>
                  <a:pt x="6137" y="12858"/>
                  <a:pt x="6102" y="13022"/>
                </a:cubicBezTo>
                <a:cubicBezTo>
                  <a:pt x="6102" y="13039"/>
                  <a:pt x="6102" y="13055"/>
                  <a:pt x="6102" y="13072"/>
                </a:cubicBezTo>
              </a:path>
              <a:path w="3473" h="745">
                <a:moveTo>
                  <a:pt x="6573" y="12601"/>
                </a:moveTo>
                <a:cubicBezTo>
                  <a:pt x="6588" y="12720"/>
                  <a:pt x="6598" y="12827"/>
                  <a:pt x="6697" y="12898"/>
                </a:cubicBezTo>
                <a:cubicBezTo>
                  <a:pt x="6751" y="12925"/>
                  <a:pt x="6771" y="12930"/>
                  <a:pt x="6796" y="12874"/>
                </a:cubicBezTo>
              </a:path>
              <a:path w="3473" h="745">
                <a:moveTo>
                  <a:pt x="6747" y="12551"/>
                </a:moveTo>
                <a:cubicBezTo>
                  <a:pt x="6683" y="12675"/>
                  <a:pt x="6523" y="12916"/>
                  <a:pt x="6524" y="12998"/>
                </a:cubicBezTo>
              </a:path>
              <a:path w="3473" h="745">
                <a:moveTo>
                  <a:pt x="7193" y="12502"/>
                </a:moveTo>
                <a:cubicBezTo>
                  <a:pt x="7221" y="12445"/>
                  <a:pt x="7227" y="12422"/>
                  <a:pt x="7193" y="12378"/>
                </a:cubicBezTo>
                <a:cubicBezTo>
                  <a:pt x="7037" y="12299"/>
                  <a:pt x="7004" y="12484"/>
                  <a:pt x="6945" y="12601"/>
                </a:cubicBezTo>
                <a:cubicBezTo>
                  <a:pt x="7091" y="12628"/>
                  <a:pt x="7215" y="12581"/>
                  <a:pt x="7317" y="12452"/>
                </a:cubicBezTo>
                <a:cubicBezTo>
                  <a:pt x="7317" y="12444"/>
                  <a:pt x="7317" y="12435"/>
                  <a:pt x="7317" y="12427"/>
                </a:cubicBezTo>
                <a:cubicBezTo>
                  <a:pt x="7299" y="12616"/>
                  <a:pt x="7211" y="12787"/>
                  <a:pt x="7169" y="12973"/>
                </a:cubicBezTo>
                <a:cubicBezTo>
                  <a:pt x="7169" y="12989"/>
                  <a:pt x="7169" y="13006"/>
                  <a:pt x="716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33880" y="5348160"/>
            <a:ext cx="384120" cy="465120"/>
          </a:xfrm>
          <a:custGeom>
            <a:avLst/>
            <a:gdLst/>
            <a:ahLst/>
            <a:rect l="l" t="t" r="r" b="b"/>
            <a:pathLst>
              <a:path w="1067" h="1291">
                <a:moveTo>
                  <a:pt x="11609" y="15156"/>
                </a:moveTo>
                <a:cubicBezTo>
                  <a:pt x="11560" y="15324"/>
                  <a:pt x="11533" y="15471"/>
                  <a:pt x="11509" y="15652"/>
                </a:cubicBezTo>
                <a:cubicBezTo>
                  <a:pt x="11492" y="15778"/>
                  <a:pt x="11429" y="16000"/>
                  <a:pt x="11534" y="16098"/>
                </a:cubicBezTo>
                <a:cubicBezTo>
                  <a:pt x="11593" y="16153"/>
                  <a:pt x="11770" y="16130"/>
                  <a:pt x="11832" y="16098"/>
                </a:cubicBezTo>
                <a:cubicBezTo>
                  <a:pt x="11933" y="16046"/>
                  <a:pt x="12022" y="15945"/>
                  <a:pt x="12080" y="15850"/>
                </a:cubicBezTo>
                <a:cubicBezTo>
                  <a:pt x="12112" y="15797"/>
                  <a:pt x="12119" y="15749"/>
                  <a:pt x="12080" y="15701"/>
                </a:cubicBezTo>
                <a:cubicBezTo>
                  <a:pt x="12053" y="15668"/>
                  <a:pt x="11947" y="15662"/>
                  <a:pt x="11906" y="15677"/>
                </a:cubicBezTo>
                <a:cubicBezTo>
                  <a:pt x="11884" y="15699"/>
                  <a:pt x="11879" y="15707"/>
                  <a:pt x="11857" y="15701"/>
                </a:cubicBezTo>
              </a:path>
              <a:path w="1067" h="1291">
                <a:moveTo>
                  <a:pt x="12030" y="15677"/>
                </a:moveTo>
                <a:cubicBezTo>
                  <a:pt x="12030" y="15669"/>
                  <a:pt x="12030" y="15660"/>
                  <a:pt x="12030" y="15652"/>
                </a:cubicBezTo>
                <a:cubicBezTo>
                  <a:pt x="12001" y="15662"/>
                  <a:pt x="11970" y="15707"/>
                  <a:pt x="11956" y="15751"/>
                </a:cubicBezTo>
                <a:cubicBezTo>
                  <a:pt x="11956" y="15776"/>
                  <a:pt x="11956" y="15784"/>
                  <a:pt x="11956" y="15801"/>
                </a:cubicBezTo>
                <a:cubicBezTo>
                  <a:pt x="11930" y="15795"/>
                  <a:pt x="11887" y="15762"/>
                  <a:pt x="11881" y="15751"/>
                </a:cubicBezTo>
                <a:cubicBezTo>
                  <a:pt x="11869" y="15727"/>
                  <a:pt x="11818" y="15697"/>
                  <a:pt x="11782" y="15751"/>
                </a:cubicBezTo>
                <a:cubicBezTo>
                  <a:pt x="11713" y="15855"/>
                  <a:pt x="11631" y="16033"/>
                  <a:pt x="11733" y="16148"/>
                </a:cubicBezTo>
                <a:cubicBezTo>
                  <a:pt x="11745" y="16162"/>
                  <a:pt x="11833" y="16148"/>
                  <a:pt x="11857" y="16148"/>
                </a:cubicBezTo>
              </a:path>
              <a:path w="1067" h="1291">
                <a:moveTo>
                  <a:pt x="12154" y="14957"/>
                </a:moveTo>
                <a:cubicBezTo>
                  <a:pt x="12114" y="14957"/>
                  <a:pt x="12255" y="14867"/>
                  <a:pt x="12278" y="14858"/>
                </a:cubicBezTo>
                <a:cubicBezTo>
                  <a:pt x="12336" y="14836"/>
                  <a:pt x="12410" y="14860"/>
                  <a:pt x="12402" y="14932"/>
                </a:cubicBezTo>
                <a:cubicBezTo>
                  <a:pt x="12396" y="14986"/>
                  <a:pt x="12338" y="15022"/>
                  <a:pt x="12303" y="15056"/>
                </a:cubicBezTo>
                <a:cubicBezTo>
                  <a:pt x="12325" y="14971"/>
                  <a:pt x="12409" y="15008"/>
                  <a:pt x="12477" y="15032"/>
                </a:cubicBezTo>
                <a:cubicBezTo>
                  <a:pt x="12586" y="15071"/>
                  <a:pt x="12575" y="15182"/>
                  <a:pt x="12477" y="15230"/>
                </a:cubicBezTo>
                <a:cubicBezTo>
                  <a:pt x="12412" y="15262"/>
                  <a:pt x="12347" y="15255"/>
                  <a:pt x="12278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1320" y="5554800"/>
            <a:ext cx="133560" cy="187200"/>
          </a:xfrm>
          <a:custGeom>
            <a:avLst/>
            <a:gdLst/>
            <a:ahLst/>
            <a:rect l="l" t="t" r="r" b="b"/>
            <a:pathLst>
              <a:path w="373" h="521">
                <a:moveTo>
                  <a:pt x="5209" y="15429"/>
                </a:moveTo>
                <a:cubicBezTo>
                  <a:pt x="5104" y="15559"/>
                  <a:pt x="4853" y="15771"/>
                  <a:pt x="4837" y="15949"/>
                </a:cubicBezTo>
                <a:cubicBezTo>
                  <a:pt x="4913" y="15949"/>
                  <a:pt x="4964" y="15921"/>
                  <a:pt x="5011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4080" y="5518080"/>
            <a:ext cx="1152720" cy="268200"/>
          </a:xfrm>
          <a:custGeom>
            <a:avLst/>
            <a:gdLst/>
            <a:ahLst/>
            <a:rect l="l" t="t" r="r" b="b"/>
            <a:pathLst>
              <a:path w="3201" h="745">
                <a:moveTo>
                  <a:pt x="3125" y="15354"/>
                </a:moveTo>
                <a:cubicBezTo>
                  <a:pt x="3088" y="15444"/>
                  <a:pt x="2786" y="16044"/>
                  <a:pt x="3001" y="16049"/>
                </a:cubicBezTo>
                <a:cubicBezTo>
                  <a:pt x="3177" y="16053"/>
                  <a:pt x="3291" y="15933"/>
                  <a:pt x="3398" y="15825"/>
                </a:cubicBezTo>
                <a:cubicBezTo>
                  <a:pt x="3398" y="15734"/>
                  <a:pt x="3406" y="15701"/>
                  <a:pt x="3324" y="15726"/>
                </a:cubicBezTo>
                <a:cubicBezTo>
                  <a:pt x="3148" y="15902"/>
                  <a:pt x="3046" y="16003"/>
                  <a:pt x="3299" y="16073"/>
                </a:cubicBezTo>
              </a:path>
              <a:path w="3201" h="745">
                <a:moveTo>
                  <a:pt x="3547" y="15577"/>
                </a:moveTo>
                <a:cubicBezTo>
                  <a:pt x="3584" y="15711"/>
                  <a:pt x="3557" y="16054"/>
                  <a:pt x="3671" y="15974"/>
                </a:cubicBezTo>
                <a:cubicBezTo>
                  <a:pt x="3696" y="15941"/>
                  <a:pt x="3721" y="15908"/>
                  <a:pt x="3746" y="15875"/>
                </a:cubicBezTo>
              </a:path>
              <a:path w="3201" h="745">
                <a:moveTo>
                  <a:pt x="3894" y="15503"/>
                </a:moveTo>
                <a:cubicBezTo>
                  <a:pt x="3859" y="15538"/>
                  <a:pt x="3459" y="15914"/>
                  <a:pt x="3522" y="15949"/>
                </a:cubicBezTo>
                <a:cubicBezTo>
                  <a:pt x="3547" y="15941"/>
                  <a:pt x="3572" y="15933"/>
                  <a:pt x="3597" y="15925"/>
                </a:cubicBezTo>
              </a:path>
              <a:path w="3201" h="745">
                <a:moveTo>
                  <a:pt x="4192" y="15329"/>
                </a:moveTo>
                <a:cubicBezTo>
                  <a:pt x="4123" y="15516"/>
                  <a:pt x="4045" y="15636"/>
                  <a:pt x="4093" y="15850"/>
                </a:cubicBezTo>
                <a:cubicBezTo>
                  <a:pt x="4157" y="16136"/>
                  <a:pt x="4456" y="15854"/>
                  <a:pt x="4564" y="15776"/>
                </a:cubicBezTo>
                <a:cubicBezTo>
                  <a:pt x="4581" y="15759"/>
                  <a:pt x="4597" y="15743"/>
                  <a:pt x="4614" y="15726"/>
                </a:cubicBezTo>
                <a:cubicBezTo>
                  <a:pt x="4454" y="15706"/>
                  <a:pt x="4367" y="15730"/>
                  <a:pt x="4341" y="15925"/>
                </a:cubicBezTo>
                <a:cubicBezTo>
                  <a:pt x="4349" y="15941"/>
                  <a:pt x="4358" y="15958"/>
                  <a:pt x="4366" y="15974"/>
                </a:cubicBezTo>
              </a:path>
              <a:path w="3201" h="745">
                <a:moveTo>
                  <a:pt x="4986" y="15503"/>
                </a:moveTo>
                <a:cubicBezTo>
                  <a:pt x="5003" y="15625"/>
                  <a:pt x="4989" y="15928"/>
                  <a:pt x="5085" y="15850"/>
                </a:cubicBezTo>
                <a:cubicBezTo>
                  <a:pt x="5093" y="15834"/>
                  <a:pt x="5102" y="15817"/>
                  <a:pt x="5110" y="15801"/>
                </a:cubicBezTo>
              </a:path>
              <a:path w="3201" h="745">
                <a:moveTo>
                  <a:pt x="5556" y="15329"/>
                </a:moveTo>
                <a:cubicBezTo>
                  <a:pt x="5531" y="15482"/>
                  <a:pt x="5435" y="15585"/>
                  <a:pt x="5432" y="15751"/>
                </a:cubicBezTo>
                <a:cubicBezTo>
                  <a:pt x="5428" y="15958"/>
                  <a:pt x="5633" y="16031"/>
                  <a:pt x="5804" y="15974"/>
                </a:cubicBezTo>
                <a:cubicBezTo>
                  <a:pt x="5876" y="15950"/>
                  <a:pt x="6185" y="15838"/>
                  <a:pt x="6077" y="15751"/>
                </a:cubicBezTo>
                <a:cubicBezTo>
                  <a:pt x="5950" y="15740"/>
                  <a:pt x="5891" y="15779"/>
                  <a:pt x="5854" y="15925"/>
                </a:cubicBezTo>
                <a:cubicBezTo>
                  <a:pt x="5854" y="15941"/>
                  <a:pt x="5854" y="15958"/>
                  <a:pt x="5854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tember 7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– a letter that is used to represent one or more numb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5 + a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2320" y="3089160"/>
            <a:ext cx="2865600" cy="142920"/>
          </a:xfrm>
          <a:custGeom>
            <a:avLst/>
            <a:gdLst/>
            <a:ahLst/>
            <a:rect l="l" t="t" r="r" b="b"/>
            <a:pathLst>
              <a:path w="7963" h="398">
                <a:moveTo>
                  <a:pt x="1811" y="8830"/>
                </a:moveTo>
                <a:cubicBezTo>
                  <a:pt x="1926" y="8921"/>
                  <a:pt x="1999" y="8919"/>
                  <a:pt x="2133" y="8855"/>
                </a:cubicBezTo>
                <a:cubicBezTo>
                  <a:pt x="2133" y="8830"/>
                  <a:pt x="2133" y="8822"/>
                  <a:pt x="2158" y="8830"/>
                </a:cubicBezTo>
                <a:cubicBezTo>
                  <a:pt x="2282" y="8897"/>
                  <a:pt x="2364" y="8905"/>
                  <a:pt x="2505" y="8905"/>
                </a:cubicBezTo>
                <a:cubicBezTo>
                  <a:pt x="2607" y="8905"/>
                  <a:pt x="2564" y="8921"/>
                  <a:pt x="2654" y="8954"/>
                </a:cubicBezTo>
                <a:cubicBezTo>
                  <a:pt x="2820" y="9015"/>
                  <a:pt x="2944" y="8934"/>
                  <a:pt x="3101" y="8905"/>
                </a:cubicBezTo>
                <a:cubicBezTo>
                  <a:pt x="3163" y="8894"/>
                  <a:pt x="3216" y="8914"/>
                  <a:pt x="3274" y="8930"/>
                </a:cubicBezTo>
                <a:cubicBezTo>
                  <a:pt x="3426" y="8973"/>
                  <a:pt x="3488" y="8863"/>
                  <a:pt x="3597" y="8855"/>
                </a:cubicBezTo>
                <a:cubicBezTo>
                  <a:pt x="3663" y="8850"/>
                  <a:pt x="3699" y="8889"/>
                  <a:pt x="3770" y="8880"/>
                </a:cubicBezTo>
                <a:cubicBezTo>
                  <a:pt x="3859" y="8869"/>
                  <a:pt x="3957" y="8823"/>
                  <a:pt x="4018" y="8830"/>
                </a:cubicBezTo>
                <a:cubicBezTo>
                  <a:pt x="4113" y="8841"/>
                  <a:pt x="4147" y="8852"/>
                  <a:pt x="4266" y="8830"/>
                </a:cubicBezTo>
                <a:cubicBezTo>
                  <a:pt x="4396" y="8806"/>
                  <a:pt x="4491" y="8801"/>
                  <a:pt x="4614" y="8830"/>
                </a:cubicBezTo>
                <a:cubicBezTo>
                  <a:pt x="4685" y="8847"/>
                  <a:pt x="4756" y="8868"/>
                  <a:pt x="4837" y="8855"/>
                </a:cubicBezTo>
                <a:cubicBezTo>
                  <a:pt x="4947" y="8838"/>
                  <a:pt x="5047" y="8830"/>
                  <a:pt x="5159" y="8830"/>
                </a:cubicBezTo>
                <a:cubicBezTo>
                  <a:pt x="5220" y="8830"/>
                  <a:pt x="5257" y="8811"/>
                  <a:pt x="5308" y="8806"/>
                </a:cubicBezTo>
                <a:cubicBezTo>
                  <a:pt x="5401" y="8797"/>
                  <a:pt x="5490" y="8769"/>
                  <a:pt x="5581" y="8756"/>
                </a:cubicBezTo>
                <a:cubicBezTo>
                  <a:pt x="5622" y="8756"/>
                  <a:pt x="5630" y="8756"/>
                  <a:pt x="5655" y="8756"/>
                </a:cubicBezTo>
              </a:path>
              <a:path w="7963" h="398">
                <a:moveTo>
                  <a:pt x="7441" y="8682"/>
                </a:moveTo>
                <a:cubicBezTo>
                  <a:pt x="7433" y="8690"/>
                  <a:pt x="7425" y="8698"/>
                  <a:pt x="7417" y="8706"/>
                </a:cubicBezTo>
                <a:cubicBezTo>
                  <a:pt x="7569" y="8706"/>
                  <a:pt x="7716" y="8695"/>
                  <a:pt x="7863" y="8682"/>
                </a:cubicBezTo>
                <a:cubicBezTo>
                  <a:pt x="7994" y="8670"/>
                  <a:pt x="8130" y="8662"/>
                  <a:pt x="8260" y="8657"/>
                </a:cubicBezTo>
                <a:cubicBezTo>
                  <a:pt x="8365" y="8653"/>
                  <a:pt x="8457" y="8619"/>
                  <a:pt x="8558" y="8607"/>
                </a:cubicBezTo>
                <a:cubicBezTo>
                  <a:pt x="8649" y="8596"/>
                  <a:pt x="8737" y="8582"/>
                  <a:pt x="8830" y="8582"/>
                </a:cubicBezTo>
                <a:cubicBezTo>
                  <a:pt x="8984" y="8582"/>
                  <a:pt x="9128" y="8590"/>
                  <a:pt x="9277" y="8607"/>
                </a:cubicBezTo>
                <a:cubicBezTo>
                  <a:pt x="9438" y="8625"/>
                  <a:pt x="9610" y="8607"/>
                  <a:pt x="9773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1240" y="150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308" y="4167"/>
                </a:moveTo>
                <a:lnTo>
                  <a:pt x="5308" y="41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54320" y="4616280"/>
            <a:ext cx="241560" cy="71640"/>
          </a:xfrm>
          <a:custGeom>
            <a:avLst/>
            <a:gdLst/>
            <a:ahLst/>
            <a:rect l="l" t="t" r="r" b="b"/>
            <a:pathLst>
              <a:path w="671" h="199">
                <a:moveTo>
                  <a:pt x="11509" y="12948"/>
                </a:moveTo>
                <a:cubicBezTo>
                  <a:pt x="11634" y="12948"/>
                  <a:pt x="11756" y="12927"/>
                  <a:pt x="11881" y="12923"/>
                </a:cubicBezTo>
                <a:cubicBezTo>
                  <a:pt x="11898" y="12923"/>
                  <a:pt x="11914" y="12923"/>
                  <a:pt x="11931" y="12923"/>
                </a:cubicBezTo>
                <a:cubicBezTo>
                  <a:pt x="11764" y="12923"/>
                  <a:pt x="11602" y="12884"/>
                  <a:pt x="11435" y="12898"/>
                </a:cubicBezTo>
                <a:cubicBezTo>
                  <a:pt x="11293" y="12910"/>
                  <a:pt x="11516" y="12958"/>
                  <a:pt x="11658" y="12948"/>
                </a:cubicBezTo>
                <a:cubicBezTo>
                  <a:pt x="11982" y="12926"/>
                  <a:pt x="11734" y="12910"/>
                  <a:pt x="11584" y="12898"/>
                </a:cubicBezTo>
                <a:cubicBezTo>
                  <a:pt x="11418" y="12884"/>
                  <a:pt x="11333" y="12932"/>
                  <a:pt x="11584" y="12923"/>
                </a:cubicBezTo>
                <a:cubicBezTo>
                  <a:pt x="11704" y="12919"/>
                  <a:pt x="12205" y="12829"/>
                  <a:pt x="11708" y="12874"/>
                </a:cubicBezTo>
                <a:cubicBezTo>
                  <a:pt x="11625" y="12882"/>
                  <a:pt x="11543" y="12890"/>
                  <a:pt x="11460" y="12898"/>
                </a:cubicBezTo>
                <a:cubicBezTo>
                  <a:pt x="11065" y="12986"/>
                  <a:pt x="11587" y="12972"/>
                  <a:pt x="11658" y="12973"/>
                </a:cubicBezTo>
                <a:cubicBezTo>
                  <a:pt x="12082" y="12980"/>
                  <a:pt x="11551" y="12925"/>
                  <a:pt x="11485" y="12923"/>
                </a:cubicBezTo>
                <a:cubicBezTo>
                  <a:pt x="11377" y="12923"/>
                  <a:pt x="11328" y="12882"/>
                  <a:pt x="11336" y="12948"/>
                </a:cubicBezTo>
                <a:cubicBezTo>
                  <a:pt x="11518" y="12969"/>
                  <a:pt x="12051" y="13016"/>
                  <a:pt x="11881" y="12948"/>
                </a:cubicBezTo>
                <a:cubicBezTo>
                  <a:pt x="11700" y="12875"/>
                  <a:pt x="11165" y="12868"/>
                  <a:pt x="11311" y="12998"/>
                </a:cubicBezTo>
                <a:cubicBezTo>
                  <a:pt x="11409" y="13085"/>
                  <a:pt x="11854" y="13037"/>
                  <a:pt x="11881" y="12874"/>
                </a:cubicBezTo>
                <a:cubicBezTo>
                  <a:pt x="11903" y="12744"/>
                  <a:pt x="11631" y="12910"/>
                  <a:pt x="11609" y="12923"/>
                </a:cubicBezTo>
              </a:path>
              <a:path w="671" h="199">
                <a:moveTo>
                  <a:pt x="11435" y="12874"/>
                </a:moveTo>
                <a:cubicBezTo>
                  <a:pt x="11570" y="12874"/>
                  <a:pt x="11698" y="12855"/>
                  <a:pt x="11832" y="12849"/>
                </a:cubicBezTo>
                <a:cubicBezTo>
                  <a:pt x="11840" y="12849"/>
                  <a:pt x="11849" y="12849"/>
                  <a:pt x="11857" y="12849"/>
                </a:cubicBezTo>
                <a:cubicBezTo>
                  <a:pt x="11684" y="12868"/>
                  <a:pt x="11510" y="12886"/>
                  <a:pt x="11336" y="12898"/>
                </a:cubicBezTo>
                <a:cubicBezTo>
                  <a:pt x="11170" y="12910"/>
                  <a:pt x="11517" y="12921"/>
                  <a:pt x="11683" y="12923"/>
                </a:cubicBezTo>
                <a:cubicBezTo>
                  <a:pt x="11832" y="12925"/>
                  <a:pt x="12123" y="12872"/>
                  <a:pt x="11708" y="12923"/>
                </a:cubicBezTo>
                <a:cubicBezTo>
                  <a:pt x="11638" y="12932"/>
                  <a:pt x="11184" y="12982"/>
                  <a:pt x="11584" y="12948"/>
                </a:cubicBezTo>
                <a:cubicBezTo>
                  <a:pt x="11758" y="12926"/>
                  <a:pt x="11800" y="12923"/>
                  <a:pt x="11906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4240" y="5241960"/>
            <a:ext cx="312840" cy="384120"/>
          </a:xfrm>
          <a:custGeom>
            <a:avLst/>
            <a:gdLst/>
            <a:ahLst/>
            <a:rect l="l" t="t" r="r" b="b"/>
            <a:pathLst>
              <a:path w="869" h="1068">
                <a:moveTo>
                  <a:pt x="11807" y="14858"/>
                </a:moveTo>
                <a:cubicBezTo>
                  <a:pt x="11824" y="14733"/>
                  <a:pt x="11826" y="14717"/>
                  <a:pt x="11931" y="14635"/>
                </a:cubicBezTo>
                <a:cubicBezTo>
                  <a:pt x="12035" y="14554"/>
                  <a:pt x="12107" y="14533"/>
                  <a:pt x="12229" y="14585"/>
                </a:cubicBezTo>
                <a:cubicBezTo>
                  <a:pt x="12307" y="14618"/>
                  <a:pt x="12367" y="14671"/>
                  <a:pt x="12353" y="14759"/>
                </a:cubicBezTo>
                <a:cubicBezTo>
                  <a:pt x="12338" y="14852"/>
                  <a:pt x="12309" y="14946"/>
                  <a:pt x="12229" y="15007"/>
                </a:cubicBezTo>
                <a:cubicBezTo>
                  <a:pt x="12160" y="15060"/>
                  <a:pt x="12037" y="15145"/>
                  <a:pt x="11956" y="15180"/>
                </a:cubicBezTo>
                <a:cubicBezTo>
                  <a:pt x="11843" y="15229"/>
                  <a:pt x="11785" y="15380"/>
                  <a:pt x="11757" y="15503"/>
                </a:cubicBezTo>
                <a:cubicBezTo>
                  <a:pt x="11748" y="15544"/>
                  <a:pt x="11712" y="15686"/>
                  <a:pt x="11757" y="15577"/>
                </a:cubicBezTo>
                <a:cubicBezTo>
                  <a:pt x="11805" y="15461"/>
                  <a:pt x="11863" y="15365"/>
                  <a:pt x="11981" y="15304"/>
                </a:cubicBezTo>
                <a:cubicBezTo>
                  <a:pt x="12078" y="15254"/>
                  <a:pt x="12180" y="15317"/>
                  <a:pt x="12229" y="15404"/>
                </a:cubicBezTo>
                <a:cubicBezTo>
                  <a:pt x="12297" y="15525"/>
                  <a:pt x="12320" y="15540"/>
                  <a:pt x="12477" y="15453"/>
                </a:cubicBezTo>
                <a:cubicBezTo>
                  <a:pt x="12576" y="15398"/>
                  <a:pt x="12589" y="15389"/>
                  <a:pt x="12601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evaluate powers containing variables if we are given the value of th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3187800"/>
            <a:ext cx="4000320" cy="2527200"/>
          </a:xfrm>
          <a:custGeom>
            <a:avLst/>
            <a:gdLst/>
            <a:ahLst/>
            <a:rect l="l" t="t" r="r" b="b"/>
            <a:pathLst>
              <a:path w="11113" h="7021">
                <a:moveTo>
                  <a:pt x="14808" y="10269"/>
                </a:moveTo>
                <a:cubicBezTo>
                  <a:pt x="14803" y="10333"/>
                  <a:pt x="14868" y="10671"/>
                  <a:pt x="14883" y="10765"/>
                </a:cubicBezTo>
                <a:cubicBezTo>
                  <a:pt x="14904" y="10931"/>
                  <a:pt x="14920" y="10966"/>
                  <a:pt x="14883" y="11063"/>
                </a:cubicBezTo>
                <a:cubicBezTo>
                  <a:pt x="14819" y="10889"/>
                  <a:pt x="14781" y="10679"/>
                  <a:pt x="14808" y="10492"/>
                </a:cubicBezTo>
                <a:cubicBezTo>
                  <a:pt x="14843" y="10249"/>
                  <a:pt x="15025" y="10111"/>
                  <a:pt x="15255" y="10071"/>
                </a:cubicBezTo>
                <a:cubicBezTo>
                  <a:pt x="15335" y="10057"/>
                  <a:pt x="15420" y="10053"/>
                  <a:pt x="15429" y="10071"/>
                </a:cubicBezTo>
              </a:path>
              <a:path w="11113" h="7021">
                <a:moveTo>
                  <a:pt x="16024" y="9401"/>
                </a:moveTo>
                <a:cubicBezTo>
                  <a:pt x="16024" y="9518"/>
                  <a:pt x="16008" y="9631"/>
                  <a:pt x="15999" y="9748"/>
                </a:cubicBezTo>
                <a:cubicBezTo>
                  <a:pt x="16142" y="9748"/>
                  <a:pt x="16259" y="9735"/>
                  <a:pt x="16396" y="9699"/>
                </a:cubicBezTo>
              </a:path>
              <a:path w="11113" h="7021">
                <a:moveTo>
                  <a:pt x="16321" y="9128"/>
                </a:moveTo>
                <a:cubicBezTo>
                  <a:pt x="16352" y="9406"/>
                  <a:pt x="16362" y="9691"/>
                  <a:pt x="16371" y="9971"/>
                </a:cubicBezTo>
                <a:cubicBezTo>
                  <a:pt x="16375" y="10108"/>
                  <a:pt x="16254" y="10439"/>
                  <a:pt x="16371" y="10368"/>
                </a:cubicBezTo>
                <a:cubicBezTo>
                  <a:pt x="16396" y="10343"/>
                  <a:pt x="16421" y="10319"/>
                  <a:pt x="16446" y="10294"/>
                </a:cubicBezTo>
              </a:path>
              <a:path w="11113" h="7021">
                <a:moveTo>
                  <a:pt x="17115" y="10269"/>
                </a:moveTo>
                <a:cubicBezTo>
                  <a:pt x="17272" y="10299"/>
                  <a:pt x="17431" y="10288"/>
                  <a:pt x="17587" y="10319"/>
                </a:cubicBezTo>
              </a:path>
              <a:path w="11113" h="7021">
                <a:moveTo>
                  <a:pt x="14511" y="11286"/>
                </a:moveTo>
                <a:cubicBezTo>
                  <a:pt x="14303" y="11467"/>
                  <a:pt x="14017" y="11686"/>
                  <a:pt x="13791" y="11881"/>
                </a:cubicBezTo>
                <a:cubicBezTo>
                  <a:pt x="13510" y="12125"/>
                  <a:pt x="13240" y="12391"/>
                  <a:pt x="12973" y="12650"/>
                </a:cubicBezTo>
                <a:cubicBezTo>
                  <a:pt x="12924" y="12697"/>
                  <a:pt x="12857" y="12772"/>
                  <a:pt x="12799" y="12824"/>
                </a:cubicBezTo>
                <a:cubicBezTo>
                  <a:pt x="12736" y="12880"/>
                  <a:pt x="12587" y="12953"/>
                  <a:pt x="12526" y="13022"/>
                </a:cubicBezTo>
                <a:cubicBezTo>
                  <a:pt x="12472" y="13083"/>
                  <a:pt x="12444" y="13158"/>
                  <a:pt x="12378" y="13221"/>
                </a:cubicBezTo>
                <a:cubicBezTo>
                  <a:pt x="12345" y="13253"/>
                  <a:pt x="12346" y="13274"/>
                  <a:pt x="12328" y="13295"/>
                </a:cubicBezTo>
              </a:path>
              <a:path w="11113" h="7021">
                <a:moveTo>
                  <a:pt x="13469" y="11485"/>
                </a:moveTo>
                <a:cubicBezTo>
                  <a:pt x="13661" y="11468"/>
                  <a:pt x="13851" y="11463"/>
                  <a:pt x="14039" y="11410"/>
                </a:cubicBezTo>
                <a:cubicBezTo>
                  <a:pt x="14181" y="11370"/>
                  <a:pt x="14321" y="11303"/>
                  <a:pt x="14461" y="11261"/>
                </a:cubicBezTo>
                <a:cubicBezTo>
                  <a:pt x="14516" y="11441"/>
                  <a:pt x="14475" y="11668"/>
                  <a:pt x="14536" y="11832"/>
                </a:cubicBezTo>
                <a:cubicBezTo>
                  <a:pt x="14544" y="11840"/>
                  <a:pt x="14552" y="11849"/>
                  <a:pt x="14560" y="11857"/>
                </a:cubicBezTo>
              </a:path>
              <a:path w="11113" h="7021">
                <a:moveTo>
                  <a:pt x="18529" y="9947"/>
                </a:moveTo>
                <a:cubicBezTo>
                  <a:pt x="18547" y="9929"/>
                  <a:pt x="18559" y="9899"/>
                  <a:pt x="18579" y="9872"/>
                </a:cubicBezTo>
                <a:cubicBezTo>
                  <a:pt x="18591" y="9856"/>
                  <a:pt x="18605" y="9827"/>
                  <a:pt x="18628" y="9798"/>
                </a:cubicBezTo>
                <a:cubicBezTo>
                  <a:pt x="18674" y="9740"/>
                  <a:pt x="18733" y="9701"/>
                  <a:pt x="18802" y="9674"/>
                </a:cubicBezTo>
                <a:cubicBezTo>
                  <a:pt x="18867" y="9649"/>
                  <a:pt x="18952" y="9643"/>
                  <a:pt x="19000" y="9699"/>
                </a:cubicBezTo>
                <a:cubicBezTo>
                  <a:pt x="19076" y="9787"/>
                  <a:pt x="18971" y="9897"/>
                  <a:pt x="18901" y="9947"/>
                </a:cubicBezTo>
                <a:cubicBezTo>
                  <a:pt x="18822" y="10003"/>
                  <a:pt x="18735" y="10055"/>
                  <a:pt x="18653" y="10096"/>
                </a:cubicBezTo>
                <a:cubicBezTo>
                  <a:pt x="18712" y="10069"/>
                  <a:pt x="18764" y="10028"/>
                  <a:pt x="18827" y="10021"/>
                </a:cubicBezTo>
                <a:cubicBezTo>
                  <a:pt x="18907" y="10012"/>
                  <a:pt x="19000" y="10028"/>
                  <a:pt x="19050" y="10096"/>
                </a:cubicBezTo>
                <a:cubicBezTo>
                  <a:pt x="19131" y="10208"/>
                  <a:pt x="19118" y="10386"/>
                  <a:pt x="19025" y="10492"/>
                </a:cubicBezTo>
                <a:cubicBezTo>
                  <a:pt x="18921" y="10610"/>
                  <a:pt x="18775" y="10660"/>
                  <a:pt x="18628" y="10666"/>
                </a:cubicBezTo>
                <a:cubicBezTo>
                  <a:pt x="18492" y="10672"/>
                  <a:pt x="18442" y="10661"/>
                  <a:pt x="18331" y="10592"/>
                </a:cubicBezTo>
              </a:path>
              <a:path w="11113" h="7021">
                <a:moveTo>
                  <a:pt x="19199" y="9029"/>
                </a:moveTo>
                <a:cubicBezTo>
                  <a:pt x="19199" y="9095"/>
                  <a:pt x="19199" y="9161"/>
                  <a:pt x="19199" y="9227"/>
                </a:cubicBezTo>
                <a:cubicBezTo>
                  <a:pt x="19292" y="9227"/>
                  <a:pt x="19362" y="9224"/>
                  <a:pt x="19447" y="9252"/>
                </a:cubicBezTo>
              </a:path>
              <a:path w="11113" h="7021">
                <a:moveTo>
                  <a:pt x="19496" y="8855"/>
                </a:moveTo>
                <a:cubicBezTo>
                  <a:pt x="19496" y="9013"/>
                  <a:pt x="19475" y="9168"/>
                  <a:pt x="19472" y="9327"/>
                </a:cubicBezTo>
                <a:cubicBezTo>
                  <a:pt x="19470" y="9417"/>
                  <a:pt x="19458" y="9460"/>
                  <a:pt x="19496" y="9525"/>
                </a:cubicBezTo>
              </a:path>
              <a:path w="11113" h="7021">
                <a:moveTo>
                  <a:pt x="17388" y="11906"/>
                </a:moveTo>
                <a:cubicBezTo>
                  <a:pt x="17498" y="11818"/>
                  <a:pt x="17581" y="11807"/>
                  <a:pt x="17711" y="11807"/>
                </a:cubicBezTo>
                <a:cubicBezTo>
                  <a:pt x="17815" y="12030"/>
                  <a:pt x="17735" y="12101"/>
                  <a:pt x="17537" y="12254"/>
                </a:cubicBezTo>
                <a:cubicBezTo>
                  <a:pt x="17444" y="12223"/>
                  <a:pt x="17677" y="12142"/>
                  <a:pt x="17735" y="12204"/>
                </a:cubicBezTo>
                <a:cubicBezTo>
                  <a:pt x="17959" y="12443"/>
                  <a:pt x="17603" y="12685"/>
                  <a:pt x="17413" y="12725"/>
                </a:cubicBezTo>
                <a:cubicBezTo>
                  <a:pt x="17110" y="12788"/>
                  <a:pt x="17160" y="12683"/>
                  <a:pt x="17239" y="12526"/>
                </a:cubicBezTo>
              </a:path>
              <a:path w="11113" h="7021">
                <a:moveTo>
                  <a:pt x="18058" y="11981"/>
                </a:moveTo>
                <a:cubicBezTo>
                  <a:pt x="18191" y="12151"/>
                  <a:pt x="18309" y="12309"/>
                  <a:pt x="18405" y="12502"/>
                </a:cubicBezTo>
              </a:path>
              <a:path w="11113" h="7021">
                <a:moveTo>
                  <a:pt x="18455" y="11782"/>
                </a:moveTo>
                <a:cubicBezTo>
                  <a:pt x="18336" y="12012"/>
                  <a:pt x="18171" y="12249"/>
                  <a:pt x="18107" y="12502"/>
                </a:cubicBezTo>
                <a:cubicBezTo>
                  <a:pt x="18107" y="12543"/>
                  <a:pt x="18099" y="12559"/>
                  <a:pt x="18132" y="12551"/>
                </a:cubicBezTo>
              </a:path>
              <a:path w="11113" h="7021">
                <a:moveTo>
                  <a:pt x="18653" y="11881"/>
                </a:moveTo>
                <a:cubicBezTo>
                  <a:pt x="18734" y="11816"/>
                  <a:pt x="19005" y="11610"/>
                  <a:pt x="19000" y="11857"/>
                </a:cubicBezTo>
                <a:cubicBezTo>
                  <a:pt x="18997" y="12004"/>
                  <a:pt x="18914" y="12081"/>
                  <a:pt x="18827" y="12179"/>
                </a:cubicBezTo>
                <a:cubicBezTo>
                  <a:pt x="18827" y="12162"/>
                  <a:pt x="18827" y="12146"/>
                  <a:pt x="18827" y="12129"/>
                </a:cubicBezTo>
                <a:cubicBezTo>
                  <a:pt x="19028" y="12117"/>
                  <a:pt x="19149" y="12212"/>
                  <a:pt x="19000" y="12427"/>
                </a:cubicBezTo>
                <a:cubicBezTo>
                  <a:pt x="18955" y="12491"/>
                  <a:pt x="18467" y="12764"/>
                  <a:pt x="18579" y="12551"/>
                </a:cubicBezTo>
                <a:cubicBezTo>
                  <a:pt x="18620" y="12501"/>
                  <a:pt x="18662" y="12452"/>
                  <a:pt x="18703" y="12402"/>
                </a:cubicBezTo>
              </a:path>
              <a:path w="11113" h="7021">
                <a:moveTo>
                  <a:pt x="19323" y="11931"/>
                </a:moveTo>
                <a:cubicBezTo>
                  <a:pt x="19441" y="12062"/>
                  <a:pt x="19590" y="12169"/>
                  <a:pt x="19695" y="12303"/>
                </a:cubicBezTo>
              </a:path>
              <a:path w="11113" h="7021">
                <a:moveTo>
                  <a:pt x="19720" y="11857"/>
                </a:moveTo>
                <a:cubicBezTo>
                  <a:pt x="19623" y="12020"/>
                  <a:pt x="19458" y="12243"/>
                  <a:pt x="19422" y="12427"/>
                </a:cubicBezTo>
                <a:cubicBezTo>
                  <a:pt x="19430" y="12419"/>
                  <a:pt x="19439" y="12410"/>
                  <a:pt x="19447" y="12402"/>
                </a:cubicBezTo>
              </a:path>
              <a:path w="11113" h="7021">
                <a:moveTo>
                  <a:pt x="19968" y="11782"/>
                </a:moveTo>
                <a:cubicBezTo>
                  <a:pt x="20091" y="11634"/>
                  <a:pt x="20232" y="11634"/>
                  <a:pt x="20414" y="11633"/>
                </a:cubicBezTo>
                <a:cubicBezTo>
                  <a:pt x="20414" y="11875"/>
                  <a:pt x="20366" y="11937"/>
                  <a:pt x="20166" y="12080"/>
                </a:cubicBezTo>
                <a:cubicBezTo>
                  <a:pt x="20104" y="11987"/>
                  <a:pt x="20326" y="12115"/>
                  <a:pt x="20340" y="12129"/>
                </a:cubicBezTo>
                <a:cubicBezTo>
                  <a:pt x="20586" y="12369"/>
                  <a:pt x="20332" y="12531"/>
                  <a:pt x="20092" y="12576"/>
                </a:cubicBezTo>
                <a:cubicBezTo>
                  <a:pt x="19975" y="12598"/>
                  <a:pt x="19942" y="12598"/>
                  <a:pt x="19918" y="12526"/>
                </a:cubicBezTo>
              </a:path>
              <a:path w="11113" h="7021">
                <a:moveTo>
                  <a:pt x="20836" y="11857"/>
                </a:moveTo>
                <a:cubicBezTo>
                  <a:pt x="20979" y="11938"/>
                  <a:pt x="21088" y="12106"/>
                  <a:pt x="21208" y="12229"/>
                </a:cubicBezTo>
                <a:cubicBezTo>
                  <a:pt x="21225" y="12245"/>
                  <a:pt x="21241" y="12262"/>
                  <a:pt x="21258" y="12278"/>
                </a:cubicBezTo>
              </a:path>
              <a:path w="11113" h="7021">
                <a:moveTo>
                  <a:pt x="21183" y="11757"/>
                </a:moveTo>
                <a:cubicBezTo>
                  <a:pt x="21076" y="11965"/>
                  <a:pt x="20658" y="12494"/>
                  <a:pt x="20861" y="12378"/>
                </a:cubicBezTo>
                <a:cubicBezTo>
                  <a:pt x="20886" y="12353"/>
                  <a:pt x="20910" y="12328"/>
                  <a:pt x="20935" y="12303"/>
                </a:cubicBezTo>
              </a:path>
              <a:path w="11113" h="7021">
                <a:moveTo>
                  <a:pt x="21580" y="11633"/>
                </a:moveTo>
                <a:cubicBezTo>
                  <a:pt x="21700" y="11558"/>
                  <a:pt x="21734" y="11570"/>
                  <a:pt x="21878" y="11584"/>
                </a:cubicBezTo>
                <a:cubicBezTo>
                  <a:pt x="21930" y="11795"/>
                  <a:pt x="21917" y="11869"/>
                  <a:pt x="21704" y="11981"/>
                </a:cubicBezTo>
                <a:cubicBezTo>
                  <a:pt x="21657" y="11981"/>
                  <a:pt x="21667" y="11969"/>
                  <a:pt x="21754" y="11931"/>
                </a:cubicBezTo>
                <a:cubicBezTo>
                  <a:pt x="21972" y="11919"/>
                  <a:pt x="22157" y="12004"/>
                  <a:pt x="22051" y="12278"/>
                </a:cubicBezTo>
                <a:cubicBezTo>
                  <a:pt x="21946" y="12551"/>
                  <a:pt x="21645" y="12480"/>
                  <a:pt x="21456" y="12402"/>
                </a:cubicBezTo>
              </a:path>
              <a:path w="11113" h="7021">
                <a:moveTo>
                  <a:pt x="17686" y="12750"/>
                </a:moveTo>
                <a:cubicBezTo>
                  <a:pt x="17704" y="12872"/>
                  <a:pt x="17694" y="12973"/>
                  <a:pt x="17686" y="13097"/>
                </a:cubicBezTo>
                <a:cubicBezTo>
                  <a:pt x="17892" y="13074"/>
                  <a:pt x="18071" y="12954"/>
                  <a:pt x="18281" y="12923"/>
                </a:cubicBezTo>
                <a:cubicBezTo>
                  <a:pt x="18392" y="12906"/>
                  <a:pt x="18454" y="12948"/>
                  <a:pt x="18554" y="12948"/>
                </a:cubicBezTo>
                <a:cubicBezTo>
                  <a:pt x="18592" y="12860"/>
                  <a:pt x="18579" y="12754"/>
                  <a:pt x="18579" y="12650"/>
                </a:cubicBezTo>
              </a:path>
              <a:path w="11113" h="7021">
                <a:moveTo>
                  <a:pt x="18182" y="13593"/>
                </a:moveTo>
                <a:cubicBezTo>
                  <a:pt x="18210" y="13499"/>
                  <a:pt x="18237" y="13360"/>
                  <a:pt x="18107" y="13320"/>
                </a:cubicBezTo>
                <a:cubicBezTo>
                  <a:pt x="18082" y="13320"/>
                  <a:pt x="18058" y="13320"/>
                  <a:pt x="18033" y="13320"/>
                </a:cubicBezTo>
                <a:cubicBezTo>
                  <a:pt x="17901" y="13464"/>
                  <a:pt x="17858" y="13571"/>
                  <a:pt x="17884" y="13767"/>
                </a:cubicBezTo>
                <a:cubicBezTo>
                  <a:pt x="18044" y="13739"/>
                  <a:pt x="18160" y="13698"/>
                  <a:pt x="18207" y="13519"/>
                </a:cubicBezTo>
                <a:cubicBezTo>
                  <a:pt x="18221" y="13464"/>
                  <a:pt x="18207" y="13364"/>
                  <a:pt x="18207" y="13494"/>
                </a:cubicBezTo>
                <a:cubicBezTo>
                  <a:pt x="18228" y="13727"/>
                  <a:pt x="18231" y="13954"/>
                  <a:pt x="18231" y="14188"/>
                </a:cubicBezTo>
                <a:cubicBezTo>
                  <a:pt x="18231" y="14238"/>
                  <a:pt x="18231" y="14255"/>
                  <a:pt x="18231" y="14188"/>
                </a:cubicBezTo>
              </a:path>
              <a:path w="11113" h="7021">
                <a:moveTo>
                  <a:pt x="18703" y="13965"/>
                </a:moveTo>
                <a:cubicBezTo>
                  <a:pt x="18984" y="13933"/>
                  <a:pt x="19263" y="13895"/>
                  <a:pt x="19546" y="13891"/>
                </a:cubicBezTo>
                <a:cubicBezTo>
                  <a:pt x="19728" y="13888"/>
                  <a:pt x="19910" y="13891"/>
                  <a:pt x="20092" y="13891"/>
                </a:cubicBezTo>
                <a:cubicBezTo>
                  <a:pt x="20100" y="13724"/>
                  <a:pt x="20079" y="13559"/>
                  <a:pt x="20092" y="13395"/>
                </a:cubicBezTo>
                <a:cubicBezTo>
                  <a:pt x="20103" y="13252"/>
                  <a:pt x="20117" y="13117"/>
                  <a:pt x="20117" y="12973"/>
                </a:cubicBezTo>
                <a:cubicBezTo>
                  <a:pt x="20117" y="12899"/>
                  <a:pt x="20117" y="12890"/>
                  <a:pt x="20117" y="12849"/>
                </a:cubicBezTo>
              </a:path>
              <a:path w="11113" h="7021">
                <a:moveTo>
                  <a:pt x="20017" y="14213"/>
                </a:moveTo>
                <a:cubicBezTo>
                  <a:pt x="20047" y="14094"/>
                  <a:pt x="20206" y="14176"/>
                  <a:pt x="20241" y="14263"/>
                </a:cubicBezTo>
                <a:cubicBezTo>
                  <a:pt x="20345" y="14522"/>
                  <a:pt x="20184" y="14827"/>
                  <a:pt x="19893" y="14833"/>
                </a:cubicBezTo>
                <a:cubicBezTo>
                  <a:pt x="19860" y="14817"/>
                  <a:pt x="19827" y="14800"/>
                  <a:pt x="19794" y="14784"/>
                </a:cubicBezTo>
                <a:cubicBezTo>
                  <a:pt x="19862" y="14595"/>
                  <a:pt x="19919" y="14597"/>
                  <a:pt x="20117" y="14660"/>
                </a:cubicBezTo>
                <a:cubicBezTo>
                  <a:pt x="20210" y="14690"/>
                  <a:pt x="20271" y="14724"/>
                  <a:pt x="20365" y="14734"/>
                </a:cubicBezTo>
              </a:path>
              <a:path w="11113" h="7021">
                <a:moveTo>
                  <a:pt x="20365" y="14163"/>
                </a:moveTo>
                <a:cubicBezTo>
                  <a:pt x="20497" y="14163"/>
                  <a:pt x="20630" y="14163"/>
                  <a:pt x="20762" y="14163"/>
                </a:cubicBezTo>
                <a:cubicBezTo>
                  <a:pt x="20751" y="14365"/>
                  <a:pt x="20717" y="14559"/>
                  <a:pt x="20687" y="14759"/>
                </a:cubicBezTo>
                <a:cubicBezTo>
                  <a:pt x="20687" y="14784"/>
                  <a:pt x="20687" y="14792"/>
                  <a:pt x="20687" y="14808"/>
                </a:cubicBezTo>
              </a:path>
              <a:path w="11113" h="7021">
                <a:moveTo>
                  <a:pt x="21034" y="14560"/>
                </a:moveTo>
                <a:cubicBezTo>
                  <a:pt x="21250" y="14526"/>
                  <a:pt x="21464" y="14481"/>
                  <a:pt x="21679" y="14436"/>
                </a:cubicBezTo>
                <a:cubicBezTo>
                  <a:pt x="21765" y="14418"/>
                  <a:pt x="21785" y="14418"/>
                  <a:pt x="21853" y="14412"/>
                </a:cubicBezTo>
                <a:cubicBezTo>
                  <a:pt x="21842" y="14246"/>
                  <a:pt x="21814" y="14080"/>
                  <a:pt x="21803" y="13915"/>
                </a:cubicBezTo>
                <a:cubicBezTo>
                  <a:pt x="21793" y="13757"/>
                  <a:pt x="21779" y="13603"/>
                  <a:pt x="21779" y="13444"/>
                </a:cubicBezTo>
                <a:cubicBezTo>
                  <a:pt x="21779" y="13352"/>
                  <a:pt x="21754" y="13287"/>
                  <a:pt x="21754" y="13196"/>
                </a:cubicBezTo>
                <a:cubicBezTo>
                  <a:pt x="21754" y="13006"/>
                  <a:pt x="21754" y="12816"/>
                  <a:pt x="21754" y="12626"/>
                </a:cubicBezTo>
              </a:path>
              <a:path w="11113" h="7021">
                <a:moveTo>
                  <a:pt x="22299" y="14784"/>
                </a:moveTo>
                <a:cubicBezTo>
                  <a:pt x="22269" y="14692"/>
                  <a:pt x="21996" y="14835"/>
                  <a:pt x="21952" y="14858"/>
                </a:cubicBezTo>
                <a:cubicBezTo>
                  <a:pt x="21866" y="14922"/>
                  <a:pt x="21833" y="14931"/>
                  <a:pt x="21853" y="15007"/>
                </a:cubicBezTo>
                <a:cubicBezTo>
                  <a:pt x="21997" y="15100"/>
                  <a:pt x="22365" y="15140"/>
                  <a:pt x="22399" y="15354"/>
                </a:cubicBezTo>
                <a:cubicBezTo>
                  <a:pt x="22428" y="15539"/>
                  <a:pt x="22241" y="15509"/>
                  <a:pt x="22151" y="15503"/>
                </a:cubicBezTo>
                <a:cubicBezTo>
                  <a:pt x="22126" y="15264"/>
                  <a:pt x="22197" y="15142"/>
                  <a:pt x="22299" y="14932"/>
                </a:cubicBezTo>
                <a:cubicBezTo>
                  <a:pt x="22307" y="14907"/>
                  <a:pt x="22316" y="14883"/>
                  <a:pt x="22324" y="14858"/>
                </a:cubicBezTo>
              </a:path>
              <a:path w="11113" h="7021">
                <a:moveTo>
                  <a:pt x="22547" y="14684"/>
                </a:moveTo>
                <a:cubicBezTo>
                  <a:pt x="22596" y="14854"/>
                  <a:pt x="22667" y="15032"/>
                  <a:pt x="22721" y="15205"/>
                </a:cubicBezTo>
                <a:cubicBezTo>
                  <a:pt x="22741" y="15266"/>
                  <a:pt x="22739" y="15281"/>
                  <a:pt x="22771" y="15304"/>
                </a:cubicBezTo>
              </a:path>
              <a:path w="11113" h="7021">
                <a:moveTo>
                  <a:pt x="21481" y="15677"/>
                </a:moveTo>
                <a:cubicBezTo>
                  <a:pt x="21533" y="15759"/>
                  <a:pt x="21561" y="15792"/>
                  <a:pt x="21679" y="15825"/>
                </a:cubicBezTo>
                <a:cubicBezTo>
                  <a:pt x="21909" y="15889"/>
                  <a:pt x="22186" y="15894"/>
                  <a:pt x="22423" y="15875"/>
                </a:cubicBezTo>
                <a:cubicBezTo>
                  <a:pt x="22624" y="15859"/>
                  <a:pt x="22846" y="15779"/>
                  <a:pt x="23019" y="15677"/>
                </a:cubicBezTo>
                <a:cubicBezTo>
                  <a:pt x="23163" y="15592"/>
                  <a:pt x="23256" y="15463"/>
                  <a:pt x="23341" y="15329"/>
                </a:cubicBezTo>
                <a:cubicBezTo>
                  <a:pt x="23405" y="15228"/>
                  <a:pt x="23455" y="15081"/>
                  <a:pt x="23440" y="14957"/>
                </a:cubicBezTo>
                <a:cubicBezTo>
                  <a:pt x="23426" y="14834"/>
                  <a:pt x="23364" y="14727"/>
                  <a:pt x="23267" y="14660"/>
                </a:cubicBezTo>
                <a:cubicBezTo>
                  <a:pt x="23132" y="14566"/>
                  <a:pt x="23062" y="14483"/>
                  <a:pt x="22895" y="14436"/>
                </a:cubicBezTo>
                <a:cubicBezTo>
                  <a:pt x="22770" y="14401"/>
                  <a:pt x="22577" y="14355"/>
                  <a:pt x="22448" y="14362"/>
                </a:cubicBezTo>
                <a:cubicBezTo>
                  <a:pt x="22317" y="14369"/>
                  <a:pt x="22152" y="14387"/>
                  <a:pt x="22027" y="14436"/>
                </a:cubicBezTo>
                <a:cubicBezTo>
                  <a:pt x="21898" y="14486"/>
                  <a:pt x="21747" y="14557"/>
                  <a:pt x="21654" y="14660"/>
                </a:cubicBezTo>
                <a:cubicBezTo>
                  <a:pt x="21539" y="14788"/>
                  <a:pt x="21472" y="14987"/>
                  <a:pt x="21456" y="15156"/>
                </a:cubicBezTo>
                <a:cubicBezTo>
                  <a:pt x="21438" y="15344"/>
                  <a:pt x="21485" y="15502"/>
                  <a:pt x="21630" y="15627"/>
                </a:cubicBezTo>
                <a:cubicBezTo>
                  <a:pt x="21677" y="15668"/>
                  <a:pt x="21707" y="15660"/>
                  <a:pt x="21754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920" y="3821040"/>
            <a:ext cx="6537240" cy="2689200"/>
          </a:xfrm>
          <a:custGeom>
            <a:avLst/>
            <a:gdLst/>
            <a:ahLst/>
            <a:rect l="l" t="t" r="r" b="b"/>
            <a:pathLst>
              <a:path w="18158" h="7468">
                <a:moveTo>
                  <a:pt x="17289" y="10641"/>
                </a:moveTo>
                <a:cubicBezTo>
                  <a:pt x="17433" y="10636"/>
                  <a:pt x="17569" y="10626"/>
                  <a:pt x="17711" y="10616"/>
                </a:cubicBezTo>
              </a:path>
              <a:path w="18158" h="7468">
                <a:moveTo>
                  <a:pt x="18628" y="13990"/>
                </a:moveTo>
                <a:cubicBezTo>
                  <a:pt x="18620" y="13990"/>
                  <a:pt x="18612" y="13990"/>
                  <a:pt x="18604" y="13990"/>
                </a:cubicBezTo>
              </a:path>
              <a:path w="18158" h="7468">
                <a:moveTo>
                  <a:pt x="18604" y="13965"/>
                </a:moveTo>
                <a:lnTo>
                  <a:pt x="18604" y="13965"/>
                </a:lnTo>
              </a:path>
              <a:path w="18158" h="7468">
                <a:moveTo>
                  <a:pt x="670" y="14833"/>
                </a:moveTo>
                <a:cubicBezTo>
                  <a:pt x="670" y="14825"/>
                  <a:pt x="670" y="14816"/>
                  <a:pt x="670" y="14808"/>
                </a:cubicBezTo>
                <a:cubicBezTo>
                  <a:pt x="670" y="14771"/>
                  <a:pt x="605" y="15011"/>
                  <a:pt x="595" y="15032"/>
                </a:cubicBezTo>
                <a:cubicBezTo>
                  <a:pt x="535" y="15152"/>
                  <a:pt x="533" y="15179"/>
                  <a:pt x="471" y="15230"/>
                </a:cubicBezTo>
                <a:cubicBezTo>
                  <a:pt x="657" y="15183"/>
                  <a:pt x="754" y="15190"/>
                  <a:pt x="943" y="15255"/>
                </a:cubicBezTo>
                <a:cubicBezTo>
                  <a:pt x="1022" y="15282"/>
                  <a:pt x="994" y="15302"/>
                  <a:pt x="1042" y="15230"/>
                </a:cubicBezTo>
              </a:path>
              <a:path w="18158" h="7468">
                <a:moveTo>
                  <a:pt x="992" y="14610"/>
                </a:moveTo>
                <a:cubicBezTo>
                  <a:pt x="966" y="14940"/>
                  <a:pt x="949" y="15271"/>
                  <a:pt x="943" y="15602"/>
                </a:cubicBezTo>
                <a:cubicBezTo>
                  <a:pt x="943" y="15676"/>
                  <a:pt x="943" y="15685"/>
                  <a:pt x="943" y="15726"/>
                </a:cubicBezTo>
              </a:path>
              <a:path w="18158" h="7468">
                <a:moveTo>
                  <a:pt x="1191" y="14039"/>
                </a:moveTo>
                <a:cubicBezTo>
                  <a:pt x="1209" y="13986"/>
                  <a:pt x="1326" y="13965"/>
                  <a:pt x="1389" y="13940"/>
                </a:cubicBezTo>
                <a:cubicBezTo>
                  <a:pt x="1430" y="14072"/>
                  <a:pt x="1460" y="14158"/>
                  <a:pt x="1315" y="14213"/>
                </a:cubicBezTo>
                <a:cubicBezTo>
                  <a:pt x="1446" y="14232"/>
                  <a:pt x="1563" y="14315"/>
                  <a:pt x="1439" y="14461"/>
                </a:cubicBezTo>
                <a:cubicBezTo>
                  <a:pt x="1363" y="14550"/>
                  <a:pt x="1307" y="14536"/>
                  <a:pt x="1215" y="14536"/>
                </a:cubicBezTo>
              </a:path>
              <a:path w="18158" h="7468">
                <a:moveTo>
                  <a:pt x="2208" y="15503"/>
                </a:moveTo>
                <a:cubicBezTo>
                  <a:pt x="2197" y="15547"/>
                  <a:pt x="2096" y="15754"/>
                  <a:pt x="2133" y="15801"/>
                </a:cubicBezTo>
                <a:cubicBezTo>
                  <a:pt x="2235" y="15930"/>
                  <a:pt x="2542" y="15842"/>
                  <a:pt x="2679" y="15825"/>
                </a:cubicBezTo>
                <a:cubicBezTo>
                  <a:pt x="2687" y="15825"/>
                  <a:pt x="2696" y="15825"/>
                  <a:pt x="2704" y="15825"/>
                </a:cubicBezTo>
              </a:path>
              <a:path w="18158" h="7468">
                <a:moveTo>
                  <a:pt x="2580" y="15379"/>
                </a:moveTo>
                <a:cubicBezTo>
                  <a:pt x="2580" y="15597"/>
                  <a:pt x="2587" y="15834"/>
                  <a:pt x="2555" y="16049"/>
                </a:cubicBezTo>
                <a:cubicBezTo>
                  <a:pt x="2535" y="16089"/>
                  <a:pt x="2516" y="16105"/>
                  <a:pt x="2555" y="16098"/>
                </a:cubicBezTo>
              </a:path>
              <a:path w="18158" h="7468">
                <a:moveTo>
                  <a:pt x="2877" y="15627"/>
                </a:moveTo>
                <a:cubicBezTo>
                  <a:pt x="2961" y="15771"/>
                  <a:pt x="3048" y="15968"/>
                  <a:pt x="3200" y="16049"/>
                </a:cubicBezTo>
                <a:cubicBezTo>
                  <a:pt x="3208" y="16049"/>
                  <a:pt x="3217" y="16049"/>
                  <a:pt x="3225" y="16049"/>
                </a:cubicBezTo>
              </a:path>
              <a:path w="18158" h="7468">
                <a:moveTo>
                  <a:pt x="3249" y="15652"/>
                </a:moveTo>
                <a:cubicBezTo>
                  <a:pt x="3167" y="15779"/>
                  <a:pt x="3019" y="16092"/>
                  <a:pt x="2877" y="16148"/>
                </a:cubicBezTo>
                <a:cubicBezTo>
                  <a:pt x="2877" y="16096"/>
                  <a:pt x="2896" y="16069"/>
                  <a:pt x="2952" y="16049"/>
                </a:cubicBezTo>
              </a:path>
              <a:path w="18158" h="7468">
                <a:moveTo>
                  <a:pt x="3597" y="15528"/>
                </a:moveTo>
                <a:cubicBezTo>
                  <a:pt x="3573" y="15659"/>
                  <a:pt x="3512" y="15757"/>
                  <a:pt x="3448" y="15875"/>
                </a:cubicBezTo>
                <a:cubicBezTo>
                  <a:pt x="3589" y="15875"/>
                  <a:pt x="3729" y="15875"/>
                  <a:pt x="3870" y="15875"/>
                </a:cubicBezTo>
              </a:path>
              <a:path w="18158" h="7468">
                <a:moveTo>
                  <a:pt x="3969" y="15379"/>
                </a:moveTo>
                <a:cubicBezTo>
                  <a:pt x="3897" y="15593"/>
                  <a:pt x="3850" y="15823"/>
                  <a:pt x="3820" y="16049"/>
                </a:cubicBezTo>
                <a:cubicBezTo>
                  <a:pt x="3820" y="16090"/>
                  <a:pt x="3820" y="16114"/>
                  <a:pt x="3820" y="16073"/>
                </a:cubicBezTo>
              </a:path>
              <a:path w="18158" h="7468">
                <a:moveTo>
                  <a:pt x="4266" y="15627"/>
                </a:moveTo>
                <a:cubicBezTo>
                  <a:pt x="4343" y="15756"/>
                  <a:pt x="4420" y="15907"/>
                  <a:pt x="4564" y="15974"/>
                </a:cubicBezTo>
                <a:cubicBezTo>
                  <a:pt x="4589" y="15974"/>
                  <a:pt x="4597" y="15974"/>
                  <a:pt x="4589" y="15949"/>
                </a:cubicBezTo>
              </a:path>
              <a:path w="18158" h="7468">
                <a:moveTo>
                  <a:pt x="4589" y="15528"/>
                </a:moveTo>
                <a:cubicBezTo>
                  <a:pt x="4460" y="15689"/>
                  <a:pt x="4348" y="15863"/>
                  <a:pt x="4217" y="16024"/>
                </a:cubicBezTo>
                <a:cubicBezTo>
                  <a:pt x="4194" y="16047"/>
                  <a:pt x="4186" y="16058"/>
                  <a:pt x="4192" y="16024"/>
                </a:cubicBezTo>
              </a:path>
              <a:path w="18158" h="7468">
                <a:moveTo>
                  <a:pt x="4936" y="15478"/>
                </a:moveTo>
                <a:cubicBezTo>
                  <a:pt x="4893" y="15556"/>
                  <a:pt x="4848" y="15614"/>
                  <a:pt x="4837" y="15701"/>
                </a:cubicBezTo>
                <a:cubicBezTo>
                  <a:pt x="4971" y="15718"/>
                  <a:pt x="5097" y="15726"/>
                  <a:pt x="5234" y="15726"/>
                </a:cubicBezTo>
              </a:path>
              <a:path w="18158" h="7468">
                <a:moveTo>
                  <a:pt x="5234" y="15131"/>
                </a:moveTo>
                <a:cubicBezTo>
                  <a:pt x="5216" y="15380"/>
                  <a:pt x="5188" y="15624"/>
                  <a:pt x="5184" y="15875"/>
                </a:cubicBezTo>
                <a:cubicBezTo>
                  <a:pt x="5184" y="15908"/>
                  <a:pt x="5184" y="15941"/>
                  <a:pt x="5184" y="15974"/>
                </a:cubicBezTo>
              </a:path>
              <a:path w="18158" h="7468">
                <a:moveTo>
                  <a:pt x="2431" y="16297"/>
                </a:moveTo>
                <a:cubicBezTo>
                  <a:pt x="2431" y="16396"/>
                  <a:pt x="2431" y="16495"/>
                  <a:pt x="2431" y="16594"/>
                </a:cubicBezTo>
                <a:cubicBezTo>
                  <a:pt x="2640" y="16594"/>
                  <a:pt x="2842" y="16554"/>
                  <a:pt x="3051" y="16545"/>
                </a:cubicBezTo>
                <a:cubicBezTo>
                  <a:pt x="3254" y="16537"/>
                  <a:pt x="3485" y="16549"/>
                  <a:pt x="3671" y="16594"/>
                </a:cubicBezTo>
                <a:cubicBezTo>
                  <a:pt x="3679" y="16594"/>
                  <a:pt x="3688" y="16594"/>
                  <a:pt x="3696" y="16594"/>
                </a:cubicBezTo>
                <a:cubicBezTo>
                  <a:pt x="3705" y="16494"/>
                  <a:pt x="3730" y="16396"/>
                  <a:pt x="3746" y="16297"/>
                </a:cubicBezTo>
                <a:cubicBezTo>
                  <a:pt x="3746" y="16289"/>
                  <a:pt x="3746" y="16280"/>
                  <a:pt x="3746" y="16272"/>
                </a:cubicBezTo>
              </a:path>
              <a:path w="18158" h="7468">
                <a:moveTo>
                  <a:pt x="2853" y="16793"/>
                </a:moveTo>
                <a:lnTo>
                  <a:pt x="2853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  <a:lnTo>
                  <a:pt x="2828" y="16793"/>
                </a:lnTo>
              </a:path>
              <a:path w="18158" h="7468">
                <a:moveTo>
                  <a:pt x="2828" y="16793"/>
                </a:moveTo>
                <a:lnTo>
                  <a:pt x="2828" y="16793"/>
                </a:lnTo>
              </a:path>
              <a:path w="18158" h="7468">
                <a:moveTo>
                  <a:pt x="2828" y="16818"/>
                </a:moveTo>
                <a:lnTo>
                  <a:pt x="2828" y="16818"/>
                </a:lnTo>
              </a:path>
              <a:path w="18158" h="7468">
                <a:moveTo>
                  <a:pt x="2828" y="16842"/>
                </a:moveTo>
                <a:cubicBezTo>
                  <a:pt x="2804" y="17017"/>
                  <a:pt x="2803" y="17186"/>
                  <a:pt x="2803" y="17363"/>
                </a:cubicBezTo>
                <a:cubicBezTo>
                  <a:pt x="2803" y="17371"/>
                  <a:pt x="2803" y="17380"/>
                  <a:pt x="2803" y="17388"/>
                </a:cubicBezTo>
              </a:path>
              <a:path w="18158" h="7468">
                <a:moveTo>
                  <a:pt x="3125" y="16768"/>
                </a:moveTo>
                <a:cubicBezTo>
                  <a:pt x="3109" y="16869"/>
                  <a:pt x="3082" y="16992"/>
                  <a:pt x="3051" y="17090"/>
                </a:cubicBezTo>
                <a:cubicBezTo>
                  <a:pt x="3042" y="17117"/>
                  <a:pt x="2954" y="17316"/>
                  <a:pt x="3001" y="17363"/>
                </a:cubicBezTo>
                <a:cubicBezTo>
                  <a:pt x="3102" y="17464"/>
                  <a:pt x="3225" y="17441"/>
                  <a:pt x="3349" y="17413"/>
                </a:cubicBezTo>
                <a:cubicBezTo>
                  <a:pt x="3430" y="17395"/>
                  <a:pt x="3523" y="17364"/>
                  <a:pt x="3572" y="17289"/>
                </a:cubicBezTo>
                <a:cubicBezTo>
                  <a:pt x="3628" y="17202"/>
                  <a:pt x="3549" y="17160"/>
                  <a:pt x="3473" y="17140"/>
                </a:cubicBezTo>
                <a:cubicBezTo>
                  <a:pt x="3400" y="17120"/>
                  <a:pt x="3339" y="17234"/>
                  <a:pt x="3324" y="17289"/>
                </a:cubicBezTo>
                <a:cubicBezTo>
                  <a:pt x="3310" y="17343"/>
                  <a:pt x="3367" y="17399"/>
                  <a:pt x="3398" y="17438"/>
                </a:cubicBezTo>
              </a:path>
              <a:path w="18158" h="7468">
                <a:moveTo>
                  <a:pt x="4043" y="17140"/>
                </a:moveTo>
                <a:cubicBezTo>
                  <a:pt x="4243" y="17121"/>
                  <a:pt x="4435" y="17078"/>
                  <a:pt x="4638" y="17066"/>
                </a:cubicBezTo>
                <a:cubicBezTo>
                  <a:pt x="4829" y="17055"/>
                  <a:pt x="4982" y="17092"/>
                  <a:pt x="5159" y="17140"/>
                </a:cubicBezTo>
                <a:cubicBezTo>
                  <a:pt x="5167" y="17140"/>
                  <a:pt x="5176" y="17140"/>
                  <a:pt x="5184" y="17140"/>
                </a:cubicBezTo>
                <a:cubicBezTo>
                  <a:pt x="5176" y="17015"/>
                  <a:pt x="5158" y="16892"/>
                  <a:pt x="5135" y="16768"/>
                </a:cubicBezTo>
                <a:cubicBezTo>
                  <a:pt x="5113" y="16650"/>
                  <a:pt x="5119" y="16479"/>
                  <a:pt x="5085" y="16371"/>
                </a:cubicBezTo>
                <a:cubicBezTo>
                  <a:pt x="5072" y="16329"/>
                  <a:pt x="5068" y="16389"/>
                  <a:pt x="5085" y="16346"/>
                </a:cubicBezTo>
              </a:path>
              <a:path w="18158" h="7468">
                <a:moveTo>
                  <a:pt x="4887" y="17438"/>
                </a:moveTo>
                <a:cubicBezTo>
                  <a:pt x="4808" y="17575"/>
                  <a:pt x="4731" y="17723"/>
                  <a:pt x="4713" y="17884"/>
                </a:cubicBezTo>
                <a:cubicBezTo>
                  <a:pt x="4713" y="17997"/>
                  <a:pt x="4707" y="18028"/>
                  <a:pt x="4762" y="18083"/>
                </a:cubicBezTo>
                <a:cubicBezTo>
                  <a:pt x="4940" y="18051"/>
                  <a:pt x="5031" y="17959"/>
                  <a:pt x="5135" y="17810"/>
                </a:cubicBezTo>
                <a:cubicBezTo>
                  <a:pt x="5155" y="17769"/>
                  <a:pt x="5163" y="17763"/>
                  <a:pt x="5159" y="17735"/>
                </a:cubicBezTo>
                <a:cubicBezTo>
                  <a:pt x="5056" y="17718"/>
                  <a:pt x="5016" y="17690"/>
                  <a:pt x="4986" y="17835"/>
                </a:cubicBezTo>
                <a:cubicBezTo>
                  <a:pt x="4977" y="17878"/>
                  <a:pt x="4970" y="18023"/>
                  <a:pt x="5011" y="18033"/>
                </a:cubicBezTo>
                <a:cubicBezTo>
                  <a:pt x="5019" y="18033"/>
                  <a:pt x="5027" y="18033"/>
                  <a:pt x="5035" y="18033"/>
                </a:cubicBezTo>
              </a:path>
              <a:path w="18158" h="7468">
                <a:moveTo>
                  <a:pt x="5333" y="17537"/>
                </a:moveTo>
                <a:cubicBezTo>
                  <a:pt x="5306" y="17578"/>
                  <a:pt x="5286" y="17620"/>
                  <a:pt x="5259" y="17661"/>
                </a:cubicBezTo>
                <a:cubicBezTo>
                  <a:pt x="5381" y="17679"/>
                  <a:pt x="5482" y="17667"/>
                  <a:pt x="5606" y="17661"/>
                </a:cubicBezTo>
                <a:cubicBezTo>
                  <a:pt x="5614" y="17661"/>
                  <a:pt x="5623" y="17661"/>
                  <a:pt x="5631" y="17661"/>
                </a:cubicBezTo>
              </a:path>
              <a:path w="18158" h="7468">
                <a:moveTo>
                  <a:pt x="5581" y="17239"/>
                </a:moveTo>
                <a:cubicBezTo>
                  <a:pt x="5581" y="17432"/>
                  <a:pt x="5560" y="17618"/>
                  <a:pt x="5556" y="17810"/>
                </a:cubicBezTo>
                <a:cubicBezTo>
                  <a:pt x="5555" y="17876"/>
                  <a:pt x="5556" y="17942"/>
                  <a:pt x="5556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1200" y="5276880"/>
            <a:ext cx="625680" cy="1081080"/>
          </a:xfrm>
          <a:custGeom>
            <a:avLst/>
            <a:gdLst/>
            <a:ahLst/>
            <a:rect l="l" t="t" r="r" b="b"/>
            <a:pathLst>
              <a:path w="1737" h="3002">
                <a:moveTo>
                  <a:pt x="7888" y="15205"/>
                </a:moveTo>
                <a:cubicBezTo>
                  <a:pt x="7864" y="15394"/>
                  <a:pt x="7844" y="15588"/>
                  <a:pt x="7813" y="15776"/>
                </a:cubicBezTo>
                <a:cubicBezTo>
                  <a:pt x="7805" y="15809"/>
                  <a:pt x="7797" y="15842"/>
                  <a:pt x="7789" y="15875"/>
                </a:cubicBezTo>
              </a:path>
              <a:path w="1737" h="3002">
                <a:moveTo>
                  <a:pt x="8086" y="15304"/>
                </a:moveTo>
                <a:cubicBezTo>
                  <a:pt x="8086" y="15432"/>
                  <a:pt x="8066" y="15550"/>
                  <a:pt x="8062" y="15677"/>
                </a:cubicBezTo>
                <a:cubicBezTo>
                  <a:pt x="8059" y="15779"/>
                  <a:pt x="8087" y="15819"/>
                  <a:pt x="8186" y="15825"/>
                </a:cubicBezTo>
                <a:cubicBezTo>
                  <a:pt x="8253" y="15829"/>
                  <a:pt x="8452" y="15827"/>
                  <a:pt x="8483" y="15751"/>
                </a:cubicBezTo>
                <a:cubicBezTo>
                  <a:pt x="8483" y="15734"/>
                  <a:pt x="8483" y="15718"/>
                  <a:pt x="8483" y="15701"/>
                </a:cubicBezTo>
                <a:cubicBezTo>
                  <a:pt x="8468" y="15611"/>
                  <a:pt x="8389" y="15618"/>
                  <a:pt x="8310" y="15677"/>
                </a:cubicBezTo>
                <a:cubicBezTo>
                  <a:pt x="8227" y="15738"/>
                  <a:pt x="8184" y="15815"/>
                  <a:pt x="8235" y="15900"/>
                </a:cubicBezTo>
              </a:path>
              <a:path w="1737" h="3002">
                <a:moveTo>
                  <a:pt x="8260" y="16073"/>
                </a:moveTo>
                <a:cubicBezTo>
                  <a:pt x="8219" y="16156"/>
                  <a:pt x="8178" y="16238"/>
                  <a:pt x="8136" y="16321"/>
                </a:cubicBezTo>
                <a:cubicBezTo>
                  <a:pt x="8236" y="16341"/>
                  <a:pt x="8306" y="16337"/>
                  <a:pt x="8409" y="16321"/>
                </a:cubicBezTo>
                <a:cubicBezTo>
                  <a:pt x="8437" y="16321"/>
                  <a:pt x="8447" y="16319"/>
                  <a:pt x="8458" y="16297"/>
                </a:cubicBezTo>
              </a:path>
              <a:path w="1737" h="3002">
                <a:moveTo>
                  <a:pt x="8434" y="15974"/>
                </a:moveTo>
                <a:cubicBezTo>
                  <a:pt x="8434" y="16144"/>
                  <a:pt x="8428" y="16301"/>
                  <a:pt x="8434" y="16470"/>
                </a:cubicBezTo>
                <a:cubicBezTo>
                  <a:pt x="8436" y="16527"/>
                  <a:pt x="8434" y="16586"/>
                  <a:pt x="8434" y="16644"/>
                </a:cubicBezTo>
              </a:path>
              <a:path w="1737" h="3002">
                <a:moveTo>
                  <a:pt x="7268" y="16768"/>
                </a:moveTo>
                <a:cubicBezTo>
                  <a:pt x="7542" y="16742"/>
                  <a:pt x="7810" y="16754"/>
                  <a:pt x="8086" y="16743"/>
                </a:cubicBezTo>
                <a:cubicBezTo>
                  <a:pt x="8366" y="16732"/>
                  <a:pt x="8631" y="16687"/>
                  <a:pt x="8905" y="16644"/>
                </a:cubicBezTo>
              </a:path>
              <a:path w="1737" h="3002">
                <a:moveTo>
                  <a:pt x="7342" y="16197"/>
                </a:moveTo>
                <a:cubicBezTo>
                  <a:pt x="7364" y="16284"/>
                  <a:pt x="7471" y="16389"/>
                  <a:pt x="7541" y="16446"/>
                </a:cubicBezTo>
                <a:cubicBezTo>
                  <a:pt x="7549" y="16446"/>
                  <a:pt x="7557" y="16446"/>
                  <a:pt x="7565" y="16446"/>
                </a:cubicBezTo>
              </a:path>
              <a:path w="1737" h="3002">
                <a:moveTo>
                  <a:pt x="7516" y="16148"/>
                </a:moveTo>
                <a:cubicBezTo>
                  <a:pt x="7429" y="16273"/>
                  <a:pt x="7361" y="16390"/>
                  <a:pt x="7293" y="16520"/>
                </a:cubicBezTo>
                <a:cubicBezTo>
                  <a:pt x="7285" y="16528"/>
                  <a:pt x="7276" y="16537"/>
                  <a:pt x="7268" y="16545"/>
                </a:cubicBezTo>
              </a:path>
              <a:path w="1737" h="3002">
                <a:moveTo>
                  <a:pt x="8235" y="17115"/>
                </a:moveTo>
                <a:cubicBezTo>
                  <a:pt x="8216" y="17189"/>
                  <a:pt x="8208" y="17196"/>
                  <a:pt x="8210" y="17239"/>
                </a:cubicBezTo>
                <a:cubicBezTo>
                  <a:pt x="8342" y="17270"/>
                  <a:pt x="8470" y="17264"/>
                  <a:pt x="8607" y="17264"/>
                </a:cubicBezTo>
                <a:cubicBezTo>
                  <a:pt x="8695" y="17264"/>
                  <a:pt x="8674" y="17247"/>
                  <a:pt x="8682" y="17165"/>
                </a:cubicBezTo>
              </a:path>
              <a:path w="1737" h="3002">
                <a:moveTo>
                  <a:pt x="8607" y="16942"/>
                </a:moveTo>
                <a:cubicBezTo>
                  <a:pt x="8607" y="17113"/>
                  <a:pt x="8599" y="17270"/>
                  <a:pt x="8607" y="17438"/>
                </a:cubicBezTo>
                <a:cubicBezTo>
                  <a:pt x="8609" y="17488"/>
                  <a:pt x="8607" y="17587"/>
                  <a:pt x="8607" y="17537"/>
                </a:cubicBezTo>
              </a:path>
              <a:path w="1737" h="3002">
                <a:moveTo>
                  <a:pt x="7590" y="14784"/>
                </a:moveTo>
                <a:cubicBezTo>
                  <a:pt x="7548" y="14773"/>
                  <a:pt x="7540" y="14766"/>
                  <a:pt x="7491" y="14759"/>
                </a:cubicBezTo>
                <a:cubicBezTo>
                  <a:pt x="7519" y="14722"/>
                  <a:pt x="7655" y="14561"/>
                  <a:pt x="7665" y="14734"/>
                </a:cubicBezTo>
                <a:cubicBezTo>
                  <a:pt x="7679" y="14972"/>
                  <a:pt x="7431" y="15041"/>
                  <a:pt x="7243" y="15032"/>
                </a:cubicBezTo>
                <a:cubicBezTo>
                  <a:pt x="7218" y="15024"/>
                  <a:pt x="7194" y="15015"/>
                  <a:pt x="7169" y="15007"/>
                </a:cubicBezTo>
                <a:cubicBezTo>
                  <a:pt x="7188" y="14889"/>
                  <a:pt x="7292" y="14943"/>
                  <a:pt x="7367" y="15007"/>
                </a:cubicBezTo>
                <a:cubicBezTo>
                  <a:pt x="7423" y="15054"/>
                  <a:pt x="7510" y="15162"/>
                  <a:pt x="7565" y="15180"/>
                </a:cubicBezTo>
              </a:path>
              <a:path w="1737" h="3002">
                <a:moveTo>
                  <a:pt x="7565" y="16966"/>
                </a:moveTo>
                <a:cubicBezTo>
                  <a:pt x="7521" y="17112"/>
                  <a:pt x="7445" y="17266"/>
                  <a:pt x="7417" y="17413"/>
                </a:cubicBezTo>
                <a:cubicBezTo>
                  <a:pt x="7386" y="17571"/>
                  <a:pt x="7452" y="17687"/>
                  <a:pt x="7615" y="17636"/>
                </a:cubicBezTo>
                <a:cubicBezTo>
                  <a:pt x="7689" y="17613"/>
                  <a:pt x="7863" y="17525"/>
                  <a:pt x="7888" y="17462"/>
                </a:cubicBezTo>
                <a:cubicBezTo>
                  <a:pt x="7888" y="17446"/>
                  <a:pt x="7888" y="17429"/>
                  <a:pt x="7888" y="17413"/>
                </a:cubicBezTo>
                <a:cubicBezTo>
                  <a:pt x="7776" y="17394"/>
                  <a:pt x="7730" y="17370"/>
                  <a:pt x="7665" y="17487"/>
                </a:cubicBezTo>
                <a:cubicBezTo>
                  <a:pt x="7643" y="17552"/>
                  <a:pt x="7635" y="17567"/>
                  <a:pt x="7640" y="176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98960" y="5759280"/>
            <a:ext cx="1465200" cy="714600"/>
          </a:xfrm>
          <a:custGeom>
            <a:avLst/>
            <a:gdLst/>
            <a:ahLst/>
            <a:rect l="l" t="t" r="r" b="b"/>
            <a:pathLst>
              <a:path w="4069" h="1985">
                <a:moveTo>
                  <a:pt x="12402" y="16049"/>
                </a:moveTo>
                <a:cubicBezTo>
                  <a:pt x="12393" y="16233"/>
                  <a:pt x="12386" y="16435"/>
                  <a:pt x="12278" y="16594"/>
                </a:cubicBezTo>
                <a:cubicBezTo>
                  <a:pt x="12270" y="16594"/>
                  <a:pt x="12262" y="16594"/>
                  <a:pt x="12254" y="16594"/>
                </a:cubicBezTo>
                <a:cubicBezTo>
                  <a:pt x="12360" y="16415"/>
                  <a:pt x="12537" y="16511"/>
                  <a:pt x="12725" y="16545"/>
                </a:cubicBezTo>
                <a:cubicBezTo>
                  <a:pt x="12832" y="16563"/>
                  <a:pt x="12840" y="16571"/>
                  <a:pt x="12898" y="16570"/>
                </a:cubicBezTo>
              </a:path>
              <a:path w="4069" h="1985">
                <a:moveTo>
                  <a:pt x="12750" y="15999"/>
                </a:moveTo>
                <a:cubicBezTo>
                  <a:pt x="12774" y="16334"/>
                  <a:pt x="12771" y="16657"/>
                  <a:pt x="12750" y="16991"/>
                </a:cubicBezTo>
                <a:cubicBezTo>
                  <a:pt x="12746" y="17054"/>
                  <a:pt x="12739" y="17091"/>
                  <a:pt x="12774" y="17115"/>
                </a:cubicBezTo>
              </a:path>
              <a:path w="4069" h="1985">
                <a:moveTo>
                  <a:pt x="11410" y="17214"/>
                </a:moveTo>
                <a:cubicBezTo>
                  <a:pt x="11332" y="17317"/>
                  <a:pt x="11448" y="17631"/>
                  <a:pt x="11460" y="17785"/>
                </a:cubicBezTo>
                <a:cubicBezTo>
                  <a:pt x="11460" y="17901"/>
                  <a:pt x="11460" y="17917"/>
                  <a:pt x="11460" y="17983"/>
                </a:cubicBezTo>
                <a:cubicBezTo>
                  <a:pt x="11444" y="17874"/>
                  <a:pt x="11383" y="17745"/>
                  <a:pt x="11385" y="17636"/>
                </a:cubicBezTo>
                <a:cubicBezTo>
                  <a:pt x="11391" y="17361"/>
                  <a:pt x="11576" y="17278"/>
                  <a:pt x="11807" y="17214"/>
                </a:cubicBezTo>
                <a:cubicBezTo>
                  <a:pt x="11961" y="17171"/>
                  <a:pt x="11894" y="17193"/>
                  <a:pt x="11981" y="17214"/>
                </a:cubicBezTo>
              </a:path>
              <a:path w="4069" h="1985">
                <a:moveTo>
                  <a:pt x="13221" y="17338"/>
                </a:moveTo>
                <a:cubicBezTo>
                  <a:pt x="13340" y="17338"/>
                  <a:pt x="13451" y="17322"/>
                  <a:pt x="13568" y="17314"/>
                </a:cubicBezTo>
                <a:cubicBezTo>
                  <a:pt x="13642" y="17314"/>
                  <a:pt x="13700" y="17314"/>
                  <a:pt x="13643" y="17314"/>
                </a:cubicBezTo>
              </a:path>
              <a:path w="4069" h="1985">
                <a:moveTo>
                  <a:pt x="13271" y="17611"/>
                </a:moveTo>
                <a:cubicBezTo>
                  <a:pt x="13445" y="17602"/>
                  <a:pt x="13616" y="17587"/>
                  <a:pt x="13791" y="17587"/>
                </a:cubicBezTo>
                <a:cubicBezTo>
                  <a:pt x="13799" y="17587"/>
                  <a:pt x="13808" y="17587"/>
                  <a:pt x="13816" y="17587"/>
                </a:cubicBezTo>
              </a:path>
              <a:path w="4069" h="1985">
                <a:moveTo>
                  <a:pt x="14784" y="16768"/>
                </a:moveTo>
                <a:cubicBezTo>
                  <a:pt x="14682" y="16693"/>
                  <a:pt x="14600" y="16681"/>
                  <a:pt x="14436" y="16694"/>
                </a:cubicBezTo>
                <a:cubicBezTo>
                  <a:pt x="14233" y="16711"/>
                  <a:pt x="14215" y="16740"/>
                  <a:pt x="14114" y="16892"/>
                </a:cubicBezTo>
                <a:cubicBezTo>
                  <a:pt x="14296" y="17160"/>
                  <a:pt x="14563" y="17261"/>
                  <a:pt x="14784" y="17487"/>
                </a:cubicBezTo>
                <a:cubicBezTo>
                  <a:pt x="14850" y="17598"/>
                  <a:pt x="14875" y="17625"/>
                  <a:pt x="14858" y="17711"/>
                </a:cubicBezTo>
                <a:cubicBezTo>
                  <a:pt x="14692" y="17822"/>
                  <a:pt x="14539" y="17864"/>
                  <a:pt x="14436" y="17636"/>
                </a:cubicBezTo>
                <a:cubicBezTo>
                  <a:pt x="14346" y="17435"/>
                  <a:pt x="14598" y="17248"/>
                  <a:pt x="14709" y="17115"/>
                </a:cubicBezTo>
                <a:cubicBezTo>
                  <a:pt x="14777" y="17033"/>
                  <a:pt x="14857" y="16845"/>
                  <a:pt x="14709" y="16793"/>
                </a:cubicBezTo>
                <a:cubicBezTo>
                  <a:pt x="14623" y="16762"/>
                  <a:pt x="14647" y="16812"/>
                  <a:pt x="14684" y="16842"/>
                </a:cubicBezTo>
              </a:path>
              <a:path w="4069" h="1985">
                <a:moveTo>
                  <a:pt x="15205" y="16718"/>
                </a:moveTo>
                <a:cubicBezTo>
                  <a:pt x="15205" y="16589"/>
                  <a:pt x="15249" y="16916"/>
                  <a:pt x="15280" y="17041"/>
                </a:cubicBezTo>
                <a:cubicBezTo>
                  <a:pt x="15329" y="17241"/>
                  <a:pt x="15373" y="17501"/>
                  <a:pt x="15453" y="176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4840" y="4232160"/>
            <a:ext cx="142920" cy="36720"/>
          </a:xfrm>
          <a:custGeom>
            <a:avLst/>
            <a:gdLst/>
            <a:ahLst/>
            <a:rect l="l" t="t" r="r" b="b"/>
            <a:pathLst>
              <a:path w="398" h="101">
                <a:moveTo>
                  <a:pt x="7144" y="11782"/>
                </a:moveTo>
                <a:cubicBezTo>
                  <a:pt x="7226" y="11782"/>
                  <a:pt x="7291" y="11770"/>
                  <a:pt x="7367" y="11757"/>
                </a:cubicBezTo>
                <a:cubicBezTo>
                  <a:pt x="7384" y="11757"/>
                  <a:pt x="7400" y="11757"/>
                  <a:pt x="7417" y="11757"/>
                </a:cubicBezTo>
                <a:cubicBezTo>
                  <a:pt x="7333" y="11774"/>
                  <a:pt x="7259" y="11803"/>
                  <a:pt x="7169" y="11807"/>
                </a:cubicBezTo>
                <a:cubicBezTo>
                  <a:pt x="7158" y="11807"/>
                  <a:pt x="7031" y="11793"/>
                  <a:pt x="7094" y="11807"/>
                </a:cubicBezTo>
                <a:cubicBezTo>
                  <a:pt x="7213" y="11834"/>
                  <a:pt x="7278" y="11817"/>
                  <a:pt x="7392" y="11807"/>
                </a:cubicBezTo>
                <a:cubicBezTo>
                  <a:pt x="7443" y="11807"/>
                  <a:pt x="7426" y="11813"/>
                  <a:pt x="7317" y="11832"/>
                </a:cubicBezTo>
                <a:cubicBezTo>
                  <a:pt x="7308" y="11832"/>
                  <a:pt x="7100" y="11832"/>
                  <a:pt x="7169" y="11832"/>
                </a:cubicBezTo>
                <a:cubicBezTo>
                  <a:pt x="7268" y="11832"/>
                  <a:pt x="7367" y="11832"/>
                  <a:pt x="7466" y="11832"/>
                </a:cubicBezTo>
                <a:cubicBezTo>
                  <a:pt x="7405" y="11832"/>
                  <a:pt x="7123" y="11851"/>
                  <a:pt x="7169" y="11857"/>
                </a:cubicBezTo>
                <a:cubicBezTo>
                  <a:pt x="7181" y="11859"/>
                  <a:pt x="7391" y="11881"/>
                  <a:pt x="7367" y="11832"/>
                </a:cubicBezTo>
                <a:cubicBezTo>
                  <a:pt x="7347" y="11791"/>
                  <a:pt x="7304" y="11807"/>
                  <a:pt x="7268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1840" y="4259160"/>
            <a:ext cx="142920" cy="460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7193" y="11956"/>
                </a:moveTo>
                <a:cubicBezTo>
                  <a:pt x="7082" y="11880"/>
                  <a:pt x="7236" y="11866"/>
                  <a:pt x="7317" y="11857"/>
                </a:cubicBezTo>
                <a:cubicBezTo>
                  <a:pt x="7378" y="11850"/>
                  <a:pt x="7502" y="11836"/>
                  <a:pt x="7441" y="11832"/>
                </a:cubicBezTo>
                <a:cubicBezTo>
                  <a:pt x="7371" y="11828"/>
                  <a:pt x="7154" y="11825"/>
                  <a:pt x="7169" y="11832"/>
                </a:cubicBezTo>
                <a:cubicBezTo>
                  <a:pt x="7185" y="11840"/>
                  <a:pt x="7202" y="11849"/>
                  <a:pt x="7218" y="11857"/>
                </a:cubicBezTo>
                <a:cubicBezTo>
                  <a:pt x="7318" y="11851"/>
                  <a:pt x="7516" y="11832"/>
                  <a:pt x="7516" y="11832"/>
                </a:cubicBezTo>
                <a:cubicBezTo>
                  <a:pt x="7516" y="11832"/>
                  <a:pt x="7367" y="11845"/>
                  <a:pt x="7293" y="11857"/>
                </a:cubicBezTo>
                <a:cubicBezTo>
                  <a:pt x="7290" y="11858"/>
                  <a:pt x="7061" y="11881"/>
                  <a:pt x="7193" y="11881"/>
                </a:cubicBezTo>
                <a:cubicBezTo>
                  <a:pt x="7277" y="11881"/>
                  <a:pt x="7327" y="11876"/>
                  <a:pt x="7392" y="11857"/>
                </a:cubicBezTo>
                <a:cubicBezTo>
                  <a:pt x="7520" y="11833"/>
                  <a:pt x="7587" y="11843"/>
                  <a:pt x="7466" y="11857"/>
                </a:cubicBezTo>
                <a:cubicBezTo>
                  <a:pt x="7365" y="11868"/>
                  <a:pt x="7095" y="11832"/>
                  <a:pt x="7193" y="11857"/>
                </a:cubicBezTo>
                <a:cubicBezTo>
                  <a:pt x="7282" y="11879"/>
                  <a:pt x="7558" y="11881"/>
                  <a:pt x="7466" y="11881"/>
                </a:cubicBezTo>
                <a:cubicBezTo>
                  <a:pt x="7370" y="11881"/>
                  <a:pt x="7287" y="11893"/>
                  <a:pt x="7193" y="11906"/>
                </a:cubicBezTo>
                <a:cubicBezTo>
                  <a:pt x="7296" y="11906"/>
                  <a:pt x="7392" y="11915"/>
                  <a:pt x="7491" y="11881"/>
                </a:cubicBezTo>
                <a:cubicBezTo>
                  <a:pt x="7588" y="11848"/>
                  <a:pt x="7293" y="11884"/>
                  <a:pt x="7193" y="11906"/>
                </a:cubicBezTo>
                <a:cubicBezTo>
                  <a:pt x="7109" y="11924"/>
                  <a:pt x="7306" y="11931"/>
                  <a:pt x="7392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8840" y="2527200"/>
            <a:ext cx="142920" cy="9720"/>
          </a:xfrm>
          <a:custGeom>
            <a:avLst/>
            <a:gdLst/>
            <a:ahLst/>
            <a:rect l="l" t="t" r="r" b="b"/>
            <a:pathLst>
              <a:path w="398" h="26">
                <a:moveTo>
                  <a:pt x="3969" y="7020"/>
                </a:moveTo>
                <a:cubicBezTo>
                  <a:pt x="4059" y="7038"/>
                  <a:pt x="4072" y="7034"/>
                  <a:pt x="4167" y="7020"/>
                </a:cubicBezTo>
                <a:cubicBezTo>
                  <a:pt x="4230" y="7011"/>
                  <a:pt x="4302" y="7020"/>
                  <a:pt x="4366" y="7020"/>
                </a:cubicBezTo>
                <a:cubicBezTo>
                  <a:pt x="4289" y="7020"/>
                  <a:pt x="4236" y="7033"/>
                  <a:pt x="4167" y="7045"/>
                </a:cubicBezTo>
                <a:cubicBezTo>
                  <a:pt x="4135" y="7051"/>
                  <a:pt x="4085" y="7045"/>
                  <a:pt x="4118" y="7045"/>
                </a:cubicBezTo>
                <a:cubicBezTo>
                  <a:pt x="4203" y="7045"/>
                  <a:pt x="4306" y="7021"/>
                  <a:pt x="4366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19120" y="3679920"/>
            <a:ext cx="100080" cy="7920"/>
          </a:xfrm>
          <a:custGeom>
            <a:avLst/>
            <a:gdLst/>
            <a:ahLst/>
            <a:rect l="l" t="t" r="r" b="b"/>
            <a:pathLst>
              <a:path w="274" h="25">
                <a:moveTo>
                  <a:pt x="3944" y="10220"/>
                </a:moveTo>
                <a:cubicBezTo>
                  <a:pt x="4018" y="10220"/>
                  <a:pt x="4093" y="10220"/>
                  <a:pt x="4167" y="10220"/>
                </a:cubicBezTo>
                <a:cubicBezTo>
                  <a:pt x="4093" y="10220"/>
                  <a:pt x="4018" y="10220"/>
                  <a:pt x="3944" y="10220"/>
                </a:cubicBezTo>
                <a:cubicBezTo>
                  <a:pt x="4021" y="10232"/>
                  <a:pt x="4086" y="10244"/>
                  <a:pt x="4167" y="10244"/>
                </a:cubicBezTo>
                <a:cubicBezTo>
                  <a:pt x="4192" y="10244"/>
                  <a:pt x="4200" y="10244"/>
                  <a:pt x="421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64000" y="2133720"/>
            <a:ext cx="376200" cy="492120"/>
          </a:xfrm>
          <a:custGeom>
            <a:avLst/>
            <a:gdLst/>
            <a:ahLst/>
            <a:rect l="l" t="t" r="r" b="b"/>
            <a:pathLst>
              <a:path w="1043" h="1366">
                <a:moveTo>
                  <a:pt x="12973" y="6276"/>
                </a:moveTo>
                <a:cubicBezTo>
                  <a:pt x="12791" y="6276"/>
                  <a:pt x="12609" y="6276"/>
                  <a:pt x="12427" y="6276"/>
                </a:cubicBezTo>
                <a:cubicBezTo>
                  <a:pt x="12433" y="6421"/>
                  <a:pt x="12463" y="6554"/>
                  <a:pt x="12477" y="6697"/>
                </a:cubicBezTo>
                <a:cubicBezTo>
                  <a:pt x="12477" y="6782"/>
                  <a:pt x="12471" y="6802"/>
                  <a:pt x="12502" y="6846"/>
                </a:cubicBezTo>
                <a:cubicBezTo>
                  <a:pt x="12537" y="6775"/>
                  <a:pt x="12559" y="6757"/>
                  <a:pt x="12626" y="6697"/>
                </a:cubicBezTo>
                <a:cubicBezTo>
                  <a:pt x="12703" y="6628"/>
                  <a:pt x="12757" y="6581"/>
                  <a:pt x="12874" y="6598"/>
                </a:cubicBezTo>
                <a:cubicBezTo>
                  <a:pt x="12980" y="6613"/>
                  <a:pt x="13014" y="6656"/>
                  <a:pt x="13047" y="6747"/>
                </a:cubicBezTo>
                <a:cubicBezTo>
                  <a:pt x="13090" y="6866"/>
                  <a:pt x="13057" y="6951"/>
                  <a:pt x="13022" y="7069"/>
                </a:cubicBezTo>
                <a:cubicBezTo>
                  <a:pt x="12986" y="7191"/>
                  <a:pt x="12876" y="7266"/>
                  <a:pt x="12750" y="7293"/>
                </a:cubicBezTo>
                <a:cubicBezTo>
                  <a:pt x="12649" y="7314"/>
                  <a:pt x="12508" y="7309"/>
                  <a:pt x="12427" y="7243"/>
                </a:cubicBezTo>
                <a:cubicBezTo>
                  <a:pt x="12402" y="7243"/>
                  <a:pt x="12394" y="7243"/>
                  <a:pt x="12402" y="7218"/>
                </a:cubicBezTo>
              </a:path>
              <a:path w="1043" h="1366">
                <a:moveTo>
                  <a:pt x="13271" y="6052"/>
                </a:moveTo>
                <a:cubicBezTo>
                  <a:pt x="13262" y="6107"/>
                  <a:pt x="13244" y="6150"/>
                  <a:pt x="13221" y="6201"/>
                </a:cubicBezTo>
                <a:cubicBezTo>
                  <a:pt x="13289" y="6215"/>
                  <a:pt x="13345" y="6226"/>
                  <a:pt x="13419" y="6226"/>
                </a:cubicBezTo>
                <a:cubicBezTo>
                  <a:pt x="13427" y="6226"/>
                  <a:pt x="13436" y="6226"/>
                  <a:pt x="13444" y="6226"/>
                </a:cubicBezTo>
              </a:path>
              <a:path w="1043" h="1366">
                <a:moveTo>
                  <a:pt x="13419" y="5928"/>
                </a:moveTo>
                <a:cubicBezTo>
                  <a:pt x="13419" y="6127"/>
                  <a:pt x="13419" y="6325"/>
                  <a:pt x="13419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7000" y="1758960"/>
            <a:ext cx="1492200" cy="420840"/>
          </a:xfrm>
          <a:custGeom>
            <a:avLst/>
            <a:gdLst/>
            <a:ahLst/>
            <a:rect l="l" t="t" r="r" b="b"/>
            <a:pathLst>
              <a:path w="4144" h="1166">
                <a:moveTo>
                  <a:pt x="16049" y="5234"/>
                </a:moveTo>
                <a:cubicBezTo>
                  <a:pt x="15969" y="5297"/>
                  <a:pt x="15920" y="5265"/>
                  <a:pt x="15825" y="5283"/>
                </a:cubicBezTo>
                <a:cubicBezTo>
                  <a:pt x="15677" y="5311"/>
                  <a:pt x="15669" y="5454"/>
                  <a:pt x="15652" y="5581"/>
                </a:cubicBezTo>
                <a:cubicBezTo>
                  <a:pt x="15652" y="5598"/>
                  <a:pt x="15652" y="5614"/>
                  <a:pt x="15652" y="5631"/>
                </a:cubicBezTo>
                <a:cubicBezTo>
                  <a:pt x="15757" y="5631"/>
                  <a:pt x="15869" y="5572"/>
                  <a:pt x="15974" y="5606"/>
                </a:cubicBezTo>
                <a:cubicBezTo>
                  <a:pt x="16285" y="5707"/>
                  <a:pt x="15969" y="5976"/>
                  <a:pt x="15825" y="6028"/>
                </a:cubicBezTo>
                <a:cubicBezTo>
                  <a:pt x="15690" y="6050"/>
                  <a:pt x="15652" y="6064"/>
                  <a:pt x="15577" y="6003"/>
                </a:cubicBezTo>
              </a:path>
              <a:path w="4144" h="1166">
                <a:moveTo>
                  <a:pt x="16247" y="5333"/>
                </a:moveTo>
                <a:cubicBezTo>
                  <a:pt x="16341" y="5486"/>
                  <a:pt x="16444" y="5603"/>
                  <a:pt x="16570" y="5730"/>
                </a:cubicBezTo>
                <a:cubicBezTo>
                  <a:pt x="16592" y="5752"/>
                  <a:pt x="16600" y="5757"/>
                  <a:pt x="16594" y="5779"/>
                </a:cubicBezTo>
              </a:path>
              <a:path w="4144" h="1166">
                <a:moveTo>
                  <a:pt x="16470" y="5308"/>
                </a:moveTo>
                <a:cubicBezTo>
                  <a:pt x="16423" y="5490"/>
                  <a:pt x="16392" y="5667"/>
                  <a:pt x="16371" y="5854"/>
                </a:cubicBezTo>
              </a:path>
              <a:path w="4144" h="1166">
                <a:moveTo>
                  <a:pt x="17066" y="5135"/>
                </a:moveTo>
                <a:cubicBezTo>
                  <a:pt x="16978" y="5153"/>
                  <a:pt x="16924" y="5140"/>
                  <a:pt x="16892" y="5209"/>
                </a:cubicBezTo>
                <a:cubicBezTo>
                  <a:pt x="16850" y="5301"/>
                  <a:pt x="16842" y="5299"/>
                  <a:pt x="16842" y="5383"/>
                </a:cubicBezTo>
                <a:cubicBezTo>
                  <a:pt x="16932" y="5360"/>
                  <a:pt x="17036" y="5293"/>
                  <a:pt x="17140" y="5358"/>
                </a:cubicBezTo>
                <a:cubicBezTo>
                  <a:pt x="17316" y="5469"/>
                  <a:pt x="17254" y="5775"/>
                  <a:pt x="17066" y="5829"/>
                </a:cubicBezTo>
                <a:cubicBezTo>
                  <a:pt x="16924" y="5829"/>
                  <a:pt x="16896" y="5839"/>
                  <a:pt x="16818" y="5804"/>
                </a:cubicBezTo>
              </a:path>
              <a:path w="4144" h="1166">
                <a:moveTo>
                  <a:pt x="17363" y="5308"/>
                </a:moveTo>
                <a:cubicBezTo>
                  <a:pt x="17455" y="5407"/>
                  <a:pt x="17540" y="5510"/>
                  <a:pt x="17636" y="5606"/>
                </a:cubicBezTo>
              </a:path>
              <a:path w="4144" h="1166">
                <a:moveTo>
                  <a:pt x="17636" y="5259"/>
                </a:moveTo>
                <a:cubicBezTo>
                  <a:pt x="17567" y="5436"/>
                  <a:pt x="17499" y="5609"/>
                  <a:pt x="17413" y="5779"/>
                </a:cubicBezTo>
              </a:path>
              <a:path w="4144" h="1166">
                <a:moveTo>
                  <a:pt x="18306" y="5035"/>
                </a:moveTo>
                <a:cubicBezTo>
                  <a:pt x="18276" y="5039"/>
                  <a:pt x="18104" y="5042"/>
                  <a:pt x="18083" y="5060"/>
                </a:cubicBezTo>
                <a:cubicBezTo>
                  <a:pt x="18056" y="5083"/>
                  <a:pt x="18037" y="5130"/>
                  <a:pt x="18033" y="5184"/>
                </a:cubicBezTo>
                <a:cubicBezTo>
                  <a:pt x="18029" y="5233"/>
                  <a:pt x="18033" y="5284"/>
                  <a:pt x="18033" y="5333"/>
                </a:cubicBezTo>
                <a:cubicBezTo>
                  <a:pt x="18114" y="5333"/>
                  <a:pt x="18266" y="5306"/>
                  <a:pt x="18331" y="5358"/>
                </a:cubicBezTo>
                <a:cubicBezTo>
                  <a:pt x="18483" y="5479"/>
                  <a:pt x="18371" y="5693"/>
                  <a:pt x="18231" y="5755"/>
                </a:cubicBezTo>
                <a:cubicBezTo>
                  <a:pt x="18116" y="5806"/>
                  <a:pt x="18030" y="5790"/>
                  <a:pt x="17959" y="5730"/>
                </a:cubicBezTo>
              </a:path>
              <a:path w="4144" h="1166">
                <a:moveTo>
                  <a:pt x="18579" y="5234"/>
                </a:moveTo>
                <a:cubicBezTo>
                  <a:pt x="18695" y="5311"/>
                  <a:pt x="18802" y="5383"/>
                  <a:pt x="18901" y="5482"/>
                </a:cubicBezTo>
              </a:path>
              <a:path w="4144" h="1166">
                <a:moveTo>
                  <a:pt x="18926" y="5184"/>
                </a:moveTo>
                <a:cubicBezTo>
                  <a:pt x="18872" y="5279"/>
                  <a:pt x="18684" y="5550"/>
                  <a:pt x="18703" y="5606"/>
                </a:cubicBezTo>
              </a:path>
              <a:path w="4144" h="1166">
                <a:moveTo>
                  <a:pt x="19496" y="4887"/>
                </a:moveTo>
                <a:cubicBezTo>
                  <a:pt x="19426" y="4943"/>
                  <a:pt x="19336" y="4966"/>
                  <a:pt x="19248" y="4986"/>
                </a:cubicBezTo>
                <a:cubicBezTo>
                  <a:pt x="19200" y="4997"/>
                  <a:pt x="19224" y="5107"/>
                  <a:pt x="19224" y="5159"/>
                </a:cubicBezTo>
                <a:cubicBezTo>
                  <a:pt x="19224" y="5184"/>
                  <a:pt x="19224" y="5192"/>
                  <a:pt x="19224" y="5209"/>
                </a:cubicBezTo>
                <a:cubicBezTo>
                  <a:pt x="19316" y="5196"/>
                  <a:pt x="19508" y="5142"/>
                  <a:pt x="19596" y="5184"/>
                </a:cubicBezTo>
                <a:cubicBezTo>
                  <a:pt x="19822" y="5292"/>
                  <a:pt x="19689" y="5533"/>
                  <a:pt x="19521" y="5606"/>
                </a:cubicBezTo>
                <a:cubicBezTo>
                  <a:pt x="19426" y="5648"/>
                  <a:pt x="19300" y="5631"/>
                  <a:pt x="19199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97360" y="1973160"/>
            <a:ext cx="2347920" cy="652680"/>
          </a:xfrm>
          <a:custGeom>
            <a:avLst/>
            <a:gdLst/>
            <a:ahLst/>
            <a:rect l="l" t="t" r="r" b="b"/>
            <a:pathLst>
              <a:path w="6525" h="1812">
                <a:moveTo>
                  <a:pt x="15825" y="6201"/>
                </a:moveTo>
                <a:cubicBezTo>
                  <a:pt x="15825" y="6300"/>
                  <a:pt x="15825" y="6400"/>
                  <a:pt x="15825" y="6499"/>
                </a:cubicBezTo>
                <a:cubicBezTo>
                  <a:pt x="16026" y="6454"/>
                  <a:pt x="16202" y="6346"/>
                  <a:pt x="16396" y="6276"/>
                </a:cubicBezTo>
                <a:cubicBezTo>
                  <a:pt x="16515" y="6233"/>
                  <a:pt x="16495" y="6251"/>
                  <a:pt x="16545" y="6276"/>
                </a:cubicBezTo>
                <a:cubicBezTo>
                  <a:pt x="16553" y="6276"/>
                  <a:pt x="16562" y="6276"/>
                  <a:pt x="16570" y="6276"/>
                </a:cubicBezTo>
                <a:cubicBezTo>
                  <a:pt x="16570" y="6183"/>
                  <a:pt x="16604" y="6095"/>
                  <a:pt x="16619" y="6003"/>
                </a:cubicBezTo>
                <a:cubicBezTo>
                  <a:pt x="16619" y="5978"/>
                  <a:pt x="16619" y="5970"/>
                  <a:pt x="16619" y="5953"/>
                </a:cubicBezTo>
              </a:path>
              <a:path w="6525" h="1812">
                <a:moveTo>
                  <a:pt x="16396" y="6648"/>
                </a:moveTo>
                <a:cubicBezTo>
                  <a:pt x="16509" y="6629"/>
                  <a:pt x="16677" y="6631"/>
                  <a:pt x="16669" y="6821"/>
                </a:cubicBezTo>
                <a:cubicBezTo>
                  <a:pt x="16662" y="6994"/>
                  <a:pt x="16454" y="7121"/>
                  <a:pt x="16346" y="7045"/>
                </a:cubicBezTo>
                <a:cubicBezTo>
                  <a:pt x="16402" y="6920"/>
                  <a:pt x="16504" y="6937"/>
                  <a:pt x="16644" y="6970"/>
                </a:cubicBezTo>
                <a:cubicBezTo>
                  <a:pt x="16729" y="6990"/>
                  <a:pt x="16694" y="7010"/>
                  <a:pt x="16743" y="6945"/>
                </a:cubicBezTo>
              </a:path>
              <a:path w="6525" h="1812">
                <a:moveTo>
                  <a:pt x="17090" y="6449"/>
                </a:moveTo>
                <a:cubicBezTo>
                  <a:pt x="17041" y="6465"/>
                  <a:pt x="16923" y="6479"/>
                  <a:pt x="16917" y="6524"/>
                </a:cubicBezTo>
                <a:cubicBezTo>
                  <a:pt x="16911" y="6568"/>
                  <a:pt x="16898" y="6602"/>
                  <a:pt x="16892" y="6648"/>
                </a:cubicBezTo>
                <a:cubicBezTo>
                  <a:pt x="16974" y="6603"/>
                  <a:pt x="17021" y="6583"/>
                  <a:pt x="17115" y="6573"/>
                </a:cubicBezTo>
                <a:cubicBezTo>
                  <a:pt x="17132" y="6695"/>
                  <a:pt x="17147" y="6819"/>
                  <a:pt x="16991" y="6871"/>
                </a:cubicBezTo>
                <a:cubicBezTo>
                  <a:pt x="16883" y="6871"/>
                  <a:pt x="16842" y="6887"/>
                  <a:pt x="16867" y="6796"/>
                </a:cubicBezTo>
              </a:path>
              <a:path w="6525" h="1812">
                <a:moveTo>
                  <a:pt x="17537" y="6598"/>
                </a:moveTo>
                <a:cubicBezTo>
                  <a:pt x="17704" y="6598"/>
                  <a:pt x="17867" y="6578"/>
                  <a:pt x="18033" y="6573"/>
                </a:cubicBezTo>
                <a:cubicBezTo>
                  <a:pt x="18075" y="6572"/>
                  <a:pt x="18072" y="6564"/>
                  <a:pt x="18083" y="6598"/>
                </a:cubicBezTo>
                <a:cubicBezTo>
                  <a:pt x="18083" y="6481"/>
                  <a:pt x="18061" y="6369"/>
                  <a:pt x="18058" y="6251"/>
                </a:cubicBezTo>
                <a:cubicBezTo>
                  <a:pt x="18055" y="6135"/>
                  <a:pt x="18058" y="6020"/>
                  <a:pt x="18058" y="5904"/>
                </a:cubicBezTo>
              </a:path>
              <a:path w="6525" h="1812">
                <a:moveTo>
                  <a:pt x="18281" y="6871"/>
                </a:moveTo>
                <a:cubicBezTo>
                  <a:pt x="18214" y="6826"/>
                  <a:pt x="18256" y="7073"/>
                  <a:pt x="18256" y="7119"/>
                </a:cubicBezTo>
                <a:cubicBezTo>
                  <a:pt x="18256" y="7191"/>
                  <a:pt x="18215" y="7372"/>
                  <a:pt x="18281" y="7218"/>
                </a:cubicBezTo>
              </a:path>
              <a:path w="6525" h="1812">
                <a:moveTo>
                  <a:pt x="18430" y="6821"/>
                </a:moveTo>
                <a:cubicBezTo>
                  <a:pt x="18554" y="6821"/>
                  <a:pt x="18634" y="6806"/>
                  <a:pt x="18703" y="6921"/>
                </a:cubicBezTo>
                <a:cubicBezTo>
                  <a:pt x="18790" y="7066"/>
                  <a:pt x="18643" y="7167"/>
                  <a:pt x="18529" y="7218"/>
                </a:cubicBezTo>
                <a:cubicBezTo>
                  <a:pt x="18521" y="7218"/>
                  <a:pt x="18512" y="7218"/>
                  <a:pt x="18504" y="7218"/>
                </a:cubicBezTo>
                <a:cubicBezTo>
                  <a:pt x="18482" y="7131"/>
                  <a:pt x="18497" y="7105"/>
                  <a:pt x="18604" y="7094"/>
                </a:cubicBezTo>
                <a:cubicBezTo>
                  <a:pt x="18696" y="7085"/>
                  <a:pt x="18715" y="7094"/>
                  <a:pt x="18777" y="7144"/>
                </a:cubicBezTo>
              </a:path>
              <a:path w="6525" h="1812">
                <a:moveTo>
                  <a:pt x="19025" y="6747"/>
                </a:moveTo>
                <a:cubicBezTo>
                  <a:pt x="18977" y="6757"/>
                  <a:pt x="18930" y="6776"/>
                  <a:pt x="18901" y="6821"/>
                </a:cubicBezTo>
                <a:cubicBezTo>
                  <a:pt x="18877" y="6869"/>
                  <a:pt x="18869" y="6884"/>
                  <a:pt x="18876" y="6921"/>
                </a:cubicBezTo>
                <a:cubicBezTo>
                  <a:pt x="18939" y="6921"/>
                  <a:pt x="19045" y="6876"/>
                  <a:pt x="19100" y="6896"/>
                </a:cubicBezTo>
                <a:cubicBezTo>
                  <a:pt x="19210" y="6937"/>
                  <a:pt x="19231" y="7048"/>
                  <a:pt x="19149" y="7119"/>
                </a:cubicBezTo>
                <a:cubicBezTo>
                  <a:pt x="19068" y="7189"/>
                  <a:pt x="19018" y="7187"/>
                  <a:pt x="18951" y="7119"/>
                </a:cubicBezTo>
              </a:path>
              <a:path w="6525" h="1812">
                <a:moveTo>
                  <a:pt x="19050" y="6772"/>
                </a:moveTo>
                <a:cubicBezTo>
                  <a:pt x="19077" y="6718"/>
                  <a:pt x="19134" y="6717"/>
                  <a:pt x="19199" y="6697"/>
                </a:cubicBezTo>
              </a:path>
              <a:path w="6525" h="1812">
                <a:moveTo>
                  <a:pt x="19670" y="6821"/>
                </a:moveTo>
                <a:cubicBezTo>
                  <a:pt x="19626" y="6832"/>
                  <a:pt x="19586" y="6847"/>
                  <a:pt x="19546" y="6871"/>
                </a:cubicBezTo>
                <a:cubicBezTo>
                  <a:pt x="19680" y="6871"/>
                  <a:pt x="19788" y="6845"/>
                  <a:pt x="19918" y="6821"/>
                </a:cubicBezTo>
                <a:cubicBezTo>
                  <a:pt x="19926" y="6821"/>
                  <a:pt x="19935" y="6821"/>
                  <a:pt x="19943" y="6821"/>
                </a:cubicBezTo>
                <a:cubicBezTo>
                  <a:pt x="19903" y="6593"/>
                  <a:pt x="19861" y="6358"/>
                  <a:pt x="19844" y="6127"/>
                </a:cubicBezTo>
                <a:cubicBezTo>
                  <a:pt x="19826" y="5883"/>
                  <a:pt x="19839" y="6068"/>
                  <a:pt x="19794" y="5978"/>
                </a:cubicBezTo>
                <a:cubicBezTo>
                  <a:pt x="19794" y="5970"/>
                  <a:pt x="19794" y="5961"/>
                  <a:pt x="19794" y="5953"/>
                </a:cubicBezTo>
              </a:path>
              <a:path w="6525" h="1812">
                <a:moveTo>
                  <a:pt x="20489" y="6375"/>
                </a:moveTo>
                <a:cubicBezTo>
                  <a:pt x="20489" y="6466"/>
                  <a:pt x="20459" y="6560"/>
                  <a:pt x="20439" y="6648"/>
                </a:cubicBezTo>
                <a:cubicBezTo>
                  <a:pt x="20431" y="6681"/>
                  <a:pt x="20422" y="6714"/>
                  <a:pt x="20414" y="6747"/>
                </a:cubicBezTo>
                <a:cubicBezTo>
                  <a:pt x="20478" y="6795"/>
                  <a:pt x="20583" y="6815"/>
                  <a:pt x="20662" y="6772"/>
                </a:cubicBezTo>
                <a:cubicBezTo>
                  <a:pt x="20744" y="6727"/>
                  <a:pt x="20827" y="6641"/>
                  <a:pt x="20836" y="6548"/>
                </a:cubicBezTo>
                <a:cubicBezTo>
                  <a:pt x="20836" y="6540"/>
                  <a:pt x="20836" y="6532"/>
                  <a:pt x="20836" y="6524"/>
                </a:cubicBezTo>
                <a:cubicBezTo>
                  <a:pt x="20715" y="6483"/>
                  <a:pt x="20686" y="6516"/>
                  <a:pt x="20613" y="6623"/>
                </a:cubicBezTo>
                <a:cubicBezTo>
                  <a:pt x="20560" y="6700"/>
                  <a:pt x="20601" y="6743"/>
                  <a:pt x="20662" y="6722"/>
                </a:cubicBezTo>
              </a:path>
              <a:path w="6525" h="1812">
                <a:moveTo>
                  <a:pt x="20960" y="6201"/>
                </a:moveTo>
                <a:cubicBezTo>
                  <a:pt x="21065" y="6131"/>
                  <a:pt x="21175" y="6156"/>
                  <a:pt x="21208" y="6300"/>
                </a:cubicBezTo>
                <a:cubicBezTo>
                  <a:pt x="21253" y="6499"/>
                  <a:pt x="21153" y="6609"/>
                  <a:pt x="20985" y="6648"/>
                </a:cubicBezTo>
                <a:cubicBezTo>
                  <a:pt x="20951" y="6514"/>
                  <a:pt x="20962" y="6451"/>
                  <a:pt x="21134" y="6499"/>
                </a:cubicBezTo>
                <a:cubicBezTo>
                  <a:pt x="21199" y="6517"/>
                  <a:pt x="21243" y="6560"/>
                  <a:pt x="21307" y="6573"/>
                </a:cubicBezTo>
              </a:path>
              <a:path w="6525" h="1812">
                <a:moveTo>
                  <a:pt x="21506" y="6028"/>
                </a:moveTo>
                <a:cubicBezTo>
                  <a:pt x="21492" y="6095"/>
                  <a:pt x="21487" y="6123"/>
                  <a:pt x="21481" y="6201"/>
                </a:cubicBezTo>
                <a:cubicBezTo>
                  <a:pt x="21567" y="6201"/>
                  <a:pt x="21679" y="6111"/>
                  <a:pt x="21754" y="6152"/>
                </a:cubicBezTo>
                <a:cubicBezTo>
                  <a:pt x="21896" y="6229"/>
                  <a:pt x="21818" y="6488"/>
                  <a:pt x="21704" y="6548"/>
                </a:cubicBezTo>
                <a:cubicBezTo>
                  <a:pt x="21549" y="6629"/>
                  <a:pt x="21507" y="6547"/>
                  <a:pt x="21431" y="6449"/>
                </a:cubicBezTo>
              </a:path>
              <a:path w="6525" h="1812">
                <a:moveTo>
                  <a:pt x="21431" y="6003"/>
                </a:moveTo>
                <a:cubicBezTo>
                  <a:pt x="21489" y="5945"/>
                  <a:pt x="21684" y="5880"/>
                  <a:pt x="21779" y="5829"/>
                </a:cubicBezTo>
                <a:cubicBezTo>
                  <a:pt x="21819" y="5809"/>
                  <a:pt x="21825" y="5800"/>
                  <a:pt x="21853" y="5804"/>
                </a:cubicBezTo>
              </a:path>
              <a:path w="6525" h="1812">
                <a:moveTo>
                  <a:pt x="20464" y="7144"/>
                </a:moveTo>
                <a:cubicBezTo>
                  <a:pt x="20631" y="7136"/>
                  <a:pt x="20793" y="7117"/>
                  <a:pt x="20960" y="7094"/>
                </a:cubicBezTo>
                <a:cubicBezTo>
                  <a:pt x="21180" y="7064"/>
                  <a:pt x="21374" y="7028"/>
                  <a:pt x="21580" y="6945"/>
                </a:cubicBezTo>
                <a:cubicBezTo>
                  <a:pt x="21793" y="6859"/>
                  <a:pt x="21976" y="6775"/>
                  <a:pt x="22151" y="6623"/>
                </a:cubicBezTo>
                <a:cubicBezTo>
                  <a:pt x="22267" y="6523"/>
                  <a:pt x="22332" y="6431"/>
                  <a:pt x="22349" y="6276"/>
                </a:cubicBezTo>
                <a:cubicBezTo>
                  <a:pt x="22367" y="6116"/>
                  <a:pt x="22336" y="5974"/>
                  <a:pt x="22275" y="5829"/>
                </a:cubicBezTo>
                <a:cubicBezTo>
                  <a:pt x="22221" y="5699"/>
                  <a:pt x="22149" y="5624"/>
                  <a:pt x="22027" y="5556"/>
                </a:cubicBezTo>
                <a:cubicBezTo>
                  <a:pt x="21892" y="5481"/>
                  <a:pt x="21683" y="5471"/>
                  <a:pt x="21530" y="5482"/>
                </a:cubicBezTo>
                <a:cubicBezTo>
                  <a:pt x="21347" y="5496"/>
                  <a:pt x="21176" y="5557"/>
                  <a:pt x="21010" y="5631"/>
                </a:cubicBezTo>
                <a:cubicBezTo>
                  <a:pt x="20866" y="5695"/>
                  <a:pt x="20823" y="5738"/>
                  <a:pt x="20737" y="5854"/>
                </a:cubicBezTo>
                <a:cubicBezTo>
                  <a:pt x="20655" y="5964"/>
                  <a:pt x="20571" y="6067"/>
                  <a:pt x="20489" y="6176"/>
                </a:cubicBezTo>
                <a:cubicBezTo>
                  <a:pt x="20428" y="6257"/>
                  <a:pt x="20367" y="6334"/>
                  <a:pt x="20315" y="6424"/>
                </a:cubicBezTo>
                <a:cubicBezTo>
                  <a:pt x="20266" y="6510"/>
                  <a:pt x="20239" y="6583"/>
                  <a:pt x="20216" y="6672"/>
                </a:cubicBezTo>
                <a:cubicBezTo>
                  <a:pt x="20204" y="6719"/>
                  <a:pt x="20162" y="6823"/>
                  <a:pt x="20166" y="6871"/>
                </a:cubicBezTo>
                <a:cubicBezTo>
                  <a:pt x="20170" y="6930"/>
                  <a:pt x="20189" y="7021"/>
                  <a:pt x="20216" y="7045"/>
                </a:cubicBezTo>
                <a:cubicBezTo>
                  <a:pt x="20292" y="7112"/>
                  <a:pt x="20378" y="7099"/>
                  <a:pt x="20464" y="7119"/>
                </a:cubicBezTo>
                <a:cubicBezTo>
                  <a:pt x="20545" y="7138"/>
                  <a:pt x="20542" y="7131"/>
                  <a:pt x="20613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2660760"/>
            <a:ext cx="1563840" cy="1741320"/>
          </a:xfrm>
          <a:custGeom>
            <a:avLst/>
            <a:gdLst/>
            <a:ahLst/>
            <a:rect l="l" t="t" r="r" b="b"/>
            <a:pathLst>
              <a:path w="4342" h="4838">
                <a:moveTo>
                  <a:pt x="22473" y="8210"/>
                </a:moveTo>
                <a:cubicBezTo>
                  <a:pt x="22451" y="8286"/>
                  <a:pt x="22410" y="8361"/>
                  <a:pt x="22374" y="8434"/>
                </a:cubicBezTo>
                <a:cubicBezTo>
                  <a:pt x="22487" y="8475"/>
                  <a:pt x="22642" y="8476"/>
                  <a:pt x="22771" y="8483"/>
                </a:cubicBezTo>
              </a:path>
              <a:path w="4342" h="4838">
                <a:moveTo>
                  <a:pt x="22796" y="8086"/>
                </a:moveTo>
                <a:cubicBezTo>
                  <a:pt x="22785" y="8286"/>
                  <a:pt x="22770" y="8486"/>
                  <a:pt x="22746" y="8682"/>
                </a:cubicBezTo>
                <a:cubicBezTo>
                  <a:pt x="22746" y="8716"/>
                  <a:pt x="22751" y="8715"/>
                  <a:pt x="22771" y="8657"/>
                </a:cubicBezTo>
              </a:path>
              <a:path w="4342" h="4838">
                <a:moveTo>
                  <a:pt x="23391" y="8210"/>
                </a:moveTo>
                <a:cubicBezTo>
                  <a:pt x="23412" y="8126"/>
                  <a:pt x="23434" y="8100"/>
                  <a:pt x="23366" y="8086"/>
                </a:cubicBezTo>
                <a:cubicBezTo>
                  <a:pt x="23165" y="8033"/>
                  <a:pt x="23102" y="8095"/>
                  <a:pt x="23019" y="8285"/>
                </a:cubicBezTo>
                <a:cubicBezTo>
                  <a:pt x="23207" y="8387"/>
                  <a:pt x="23286" y="8271"/>
                  <a:pt x="23440" y="8136"/>
                </a:cubicBezTo>
                <a:cubicBezTo>
                  <a:pt x="23440" y="8303"/>
                  <a:pt x="23389" y="8446"/>
                  <a:pt x="23366" y="8607"/>
                </a:cubicBezTo>
                <a:cubicBezTo>
                  <a:pt x="23366" y="8685"/>
                  <a:pt x="23381" y="8703"/>
                  <a:pt x="23341" y="8731"/>
                </a:cubicBezTo>
              </a:path>
              <a:path w="4342" h="4838">
                <a:moveTo>
                  <a:pt x="22944" y="8855"/>
                </a:moveTo>
                <a:cubicBezTo>
                  <a:pt x="23127" y="8846"/>
                  <a:pt x="23307" y="8814"/>
                  <a:pt x="23490" y="8806"/>
                </a:cubicBezTo>
                <a:cubicBezTo>
                  <a:pt x="23498" y="8806"/>
                  <a:pt x="23507" y="8806"/>
                  <a:pt x="23515" y="8806"/>
                </a:cubicBezTo>
                <a:cubicBezTo>
                  <a:pt x="23485" y="8966"/>
                  <a:pt x="23407" y="9115"/>
                  <a:pt x="23366" y="9277"/>
                </a:cubicBezTo>
                <a:cubicBezTo>
                  <a:pt x="23366" y="9285"/>
                  <a:pt x="23366" y="9294"/>
                  <a:pt x="23366" y="9302"/>
                </a:cubicBezTo>
              </a:path>
              <a:path w="4342" h="4838">
                <a:moveTo>
                  <a:pt x="21679" y="9550"/>
                </a:moveTo>
                <a:cubicBezTo>
                  <a:pt x="22170" y="9550"/>
                  <a:pt x="22653" y="9507"/>
                  <a:pt x="23143" y="9475"/>
                </a:cubicBezTo>
                <a:cubicBezTo>
                  <a:pt x="23263" y="9467"/>
                  <a:pt x="23536" y="9438"/>
                  <a:pt x="23639" y="9475"/>
                </a:cubicBezTo>
              </a:path>
              <a:path w="4342" h="4838">
                <a:moveTo>
                  <a:pt x="23118" y="9847"/>
                </a:moveTo>
                <a:cubicBezTo>
                  <a:pt x="23022" y="9816"/>
                  <a:pt x="23240" y="9771"/>
                  <a:pt x="23341" y="9773"/>
                </a:cubicBezTo>
                <a:cubicBezTo>
                  <a:pt x="23453" y="9796"/>
                  <a:pt x="23487" y="9794"/>
                  <a:pt x="23515" y="9872"/>
                </a:cubicBezTo>
                <a:cubicBezTo>
                  <a:pt x="23425" y="9968"/>
                  <a:pt x="23111" y="10046"/>
                  <a:pt x="23242" y="10046"/>
                </a:cubicBezTo>
                <a:cubicBezTo>
                  <a:pt x="23250" y="10046"/>
                  <a:pt x="23259" y="10046"/>
                  <a:pt x="23267" y="10046"/>
                </a:cubicBezTo>
                <a:cubicBezTo>
                  <a:pt x="23339" y="10043"/>
                  <a:pt x="23774" y="10090"/>
                  <a:pt x="23515" y="10269"/>
                </a:cubicBezTo>
                <a:cubicBezTo>
                  <a:pt x="23294" y="10421"/>
                  <a:pt x="23144" y="10333"/>
                  <a:pt x="22944" y="10244"/>
                </a:cubicBezTo>
              </a:path>
              <a:path w="4342" h="4838">
                <a:moveTo>
                  <a:pt x="22275" y="7392"/>
                </a:moveTo>
                <a:cubicBezTo>
                  <a:pt x="22200" y="7497"/>
                  <a:pt x="22176" y="7592"/>
                  <a:pt x="22151" y="7714"/>
                </a:cubicBezTo>
                <a:cubicBezTo>
                  <a:pt x="22134" y="7798"/>
                  <a:pt x="22094" y="7891"/>
                  <a:pt x="22200" y="7938"/>
                </a:cubicBezTo>
                <a:cubicBezTo>
                  <a:pt x="22315" y="7989"/>
                  <a:pt x="22433" y="7957"/>
                  <a:pt x="22547" y="7938"/>
                </a:cubicBezTo>
                <a:cubicBezTo>
                  <a:pt x="22623" y="7925"/>
                  <a:pt x="22654" y="7884"/>
                  <a:pt x="22671" y="7813"/>
                </a:cubicBezTo>
                <a:cubicBezTo>
                  <a:pt x="22686" y="7751"/>
                  <a:pt x="22618" y="7726"/>
                  <a:pt x="22572" y="7714"/>
                </a:cubicBezTo>
                <a:cubicBezTo>
                  <a:pt x="22524" y="7702"/>
                  <a:pt x="22489" y="7783"/>
                  <a:pt x="22473" y="7813"/>
                </a:cubicBezTo>
                <a:cubicBezTo>
                  <a:pt x="22447" y="7863"/>
                  <a:pt x="22448" y="7885"/>
                  <a:pt x="22448" y="7938"/>
                </a:cubicBezTo>
              </a:path>
              <a:path w="4342" h="4838">
                <a:moveTo>
                  <a:pt x="21729" y="9847"/>
                </a:moveTo>
                <a:cubicBezTo>
                  <a:pt x="21698" y="9857"/>
                  <a:pt x="21622" y="9893"/>
                  <a:pt x="21779" y="9823"/>
                </a:cubicBezTo>
                <a:cubicBezTo>
                  <a:pt x="21893" y="9772"/>
                  <a:pt x="22128" y="9817"/>
                  <a:pt x="22051" y="9996"/>
                </a:cubicBezTo>
                <a:cubicBezTo>
                  <a:pt x="22013" y="10085"/>
                  <a:pt x="21930" y="10087"/>
                  <a:pt x="21853" y="10096"/>
                </a:cubicBezTo>
                <a:cubicBezTo>
                  <a:pt x="21861" y="10096"/>
                  <a:pt x="21870" y="10096"/>
                  <a:pt x="21878" y="10096"/>
                </a:cubicBezTo>
                <a:cubicBezTo>
                  <a:pt x="21988" y="10096"/>
                  <a:pt x="22190" y="10120"/>
                  <a:pt x="22151" y="10294"/>
                </a:cubicBezTo>
                <a:cubicBezTo>
                  <a:pt x="22105" y="10498"/>
                  <a:pt x="21827" y="10399"/>
                  <a:pt x="21704" y="10368"/>
                </a:cubicBezTo>
              </a:path>
              <a:path w="4342" h="4838">
                <a:moveTo>
                  <a:pt x="22423" y="9847"/>
                </a:moveTo>
                <a:cubicBezTo>
                  <a:pt x="22396" y="9766"/>
                  <a:pt x="22414" y="9936"/>
                  <a:pt x="22423" y="10021"/>
                </a:cubicBezTo>
                <a:cubicBezTo>
                  <a:pt x="22434" y="10130"/>
                  <a:pt x="22459" y="10236"/>
                  <a:pt x="22473" y="10344"/>
                </a:cubicBezTo>
              </a:path>
              <a:path w="4342" h="4838">
                <a:moveTo>
                  <a:pt x="20241" y="11187"/>
                </a:moveTo>
                <a:cubicBezTo>
                  <a:pt x="20220" y="11187"/>
                  <a:pt x="20136" y="11203"/>
                  <a:pt x="20191" y="11187"/>
                </a:cubicBezTo>
                <a:cubicBezTo>
                  <a:pt x="20323" y="11148"/>
                  <a:pt x="20342" y="11127"/>
                  <a:pt x="20464" y="11162"/>
                </a:cubicBezTo>
                <a:cubicBezTo>
                  <a:pt x="20475" y="11349"/>
                  <a:pt x="20455" y="11416"/>
                  <a:pt x="20265" y="11460"/>
                </a:cubicBezTo>
                <a:cubicBezTo>
                  <a:pt x="20377" y="11385"/>
                  <a:pt x="20540" y="11393"/>
                  <a:pt x="20588" y="11559"/>
                </a:cubicBezTo>
                <a:cubicBezTo>
                  <a:pt x="20652" y="11780"/>
                  <a:pt x="20349" y="11811"/>
                  <a:pt x="20216" y="11782"/>
                </a:cubicBezTo>
                <a:cubicBezTo>
                  <a:pt x="20208" y="11774"/>
                  <a:pt x="20199" y="11765"/>
                  <a:pt x="20191" y="11757"/>
                </a:cubicBezTo>
              </a:path>
              <a:path w="4342" h="4838">
                <a:moveTo>
                  <a:pt x="20861" y="11162"/>
                </a:moveTo>
                <a:cubicBezTo>
                  <a:pt x="20861" y="11282"/>
                  <a:pt x="20926" y="11396"/>
                  <a:pt x="20960" y="11509"/>
                </a:cubicBezTo>
                <a:cubicBezTo>
                  <a:pt x="20979" y="11583"/>
                  <a:pt x="20987" y="11590"/>
                  <a:pt x="20985" y="11633"/>
                </a:cubicBezTo>
              </a:path>
              <a:path w="4342" h="4838">
                <a:moveTo>
                  <a:pt x="21134" y="11137"/>
                </a:moveTo>
                <a:cubicBezTo>
                  <a:pt x="21215" y="11091"/>
                  <a:pt x="21372" y="11043"/>
                  <a:pt x="21431" y="11162"/>
                </a:cubicBezTo>
                <a:cubicBezTo>
                  <a:pt x="21485" y="11272"/>
                  <a:pt x="21318" y="11325"/>
                  <a:pt x="21258" y="11361"/>
                </a:cubicBezTo>
                <a:cubicBezTo>
                  <a:pt x="21250" y="11361"/>
                  <a:pt x="21241" y="11361"/>
                  <a:pt x="21233" y="11361"/>
                </a:cubicBezTo>
                <a:cubicBezTo>
                  <a:pt x="21315" y="11328"/>
                  <a:pt x="21438" y="11284"/>
                  <a:pt x="21530" y="11385"/>
                </a:cubicBezTo>
                <a:cubicBezTo>
                  <a:pt x="21696" y="11568"/>
                  <a:pt x="21565" y="11681"/>
                  <a:pt x="21382" y="11708"/>
                </a:cubicBezTo>
                <a:cubicBezTo>
                  <a:pt x="21304" y="11708"/>
                  <a:pt x="21286" y="11724"/>
                  <a:pt x="21258" y="11683"/>
                </a:cubicBezTo>
              </a:path>
              <a:path w="4342" h="4838">
                <a:moveTo>
                  <a:pt x="19720" y="12105"/>
                </a:moveTo>
                <a:cubicBezTo>
                  <a:pt x="20175" y="12105"/>
                  <a:pt x="20630" y="12116"/>
                  <a:pt x="21084" y="12080"/>
                </a:cubicBezTo>
                <a:cubicBezTo>
                  <a:pt x="21366" y="12057"/>
                  <a:pt x="21675" y="12036"/>
                  <a:pt x="21878" y="11807"/>
                </a:cubicBezTo>
                <a:cubicBezTo>
                  <a:pt x="21968" y="11705"/>
                  <a:pt x="21970" y="11499"/>
                  <a:pt x="21903" y="11385"/>
                </a:cubicBezTo>
                <a:cubicBezTo>
                  <a:pt x="21763" y="11146"/>
                  <a:pt x="21501" y="11095"/>
                  <a:pt x="21258" y="11013"/>
                </a:cubicBezTo>
                <a:cubicBezTo>
                  <a:pt x="21030" y="10936"/>
                  <a:pt x="20759" y="10836"/>
                  <a:pt x="20513" y="10840"/>
                </a:cubicBezTo>
                <a:cubicBezTo>
                  <a:pt x="20255" y="10844"/>
                  <a:pt x="19960" y="10890"/>
                  <a:pt x="19745" y="11038"/>
                </a:cubicBezTo>
                <a:cubicBezTo>
                  <a:pt x="19492" y="11212"/>
                  <a:pt x="19339" y="11480"/>
                  <a:pt x="19298" y="11782"/>
                </a:cubicBezTo>
                <a:cubicBezTo>
                  <a:pt x="19251" y="12132"/>
                  <a:pt x="19520" y="12146"/>
                  <a:pt x="19794" y="12179"/>
                </a:cubicBezTo>
                <a:cubicBezTo>
                  <a:pt x="20026" y="12200"/>
                  <a:pt x="20077" y="12202"/>
                  <a:pt x="20216" y="12229"/>
                </a:cubicBezTo>
              </a:path>
              <a:path w="4342" h="4838">
                <a:moveTo>
                  <a:pt x="22175" y="9872"/>
                </a:moveTo>
                <a:cubicBezTo>
                  <a:pt x="22175" y="9847"/>
                  <a:pt x="22175" y="9839"/>
                  <a:pt x="22175" y="9823"/>
                </a:cubicBezTo>
                <a:cubicBezTo>
                  <a:pt x="22183" y="9881"/>
                  <a:pt x="22200" y="9936"/>
                  <a:pt x="22200" y="9996"/>
                </a:cubicBezTo>
                <a:cubicBezTo>
                  <a:pt x="22200" y="10004"/>
                  <a:pt x="22200" y="10013"/>
                  <a:pt x="22200" y="10021"/>
                </a:cubicBezTo>
                <a:cubicBezTo>
                  <a:pt x="22280" y="10032"/>
                  <a:pt x="22333" y="10030"/>
                  <a:pt x="22423" y="10021"/>
                </a:cubicBezTo>
              </a:path>
              <a:path w="4342" h="4838">
                <a:moveTo>
                  <a:pt x="20538" y="11261"/>
                </a:moveTo>
                <a:cubicBezTo>
                  <a:pt x="20538" y="11347"/>
                  <a:pt x="20557" y="11424"/>
                  <a:pt x="20563" y="11509"/>
                </a:cubicBezTo>
                <a:cubicBezTo>
                  <a:pt x="20563" y="11517"/>
                  <a:pt x="20563" y="11526"/>
                  <a:pt x="20563" y="11534"/>
                </a:cubicBezTo>
                <a:cubicBezTo>
                  <a:pt x="20650" y="11534"/>
                  <a:pt x="20725" y="11521"/>
                  <a:pt x="20811" y="11509"/>
                </a:cubicBezTo>
                <a:cubicBezTo>
                  <a:pt x="20863" y="11502"/>
                  <a:pt x="20885" y="11518"/>
                  <a:pt x="20935" y="11485"/>
                </a:cubicBezTo>
                <a:cubicBezTo>
                  <a:pt x="20958" y="11462"/>
                  <a:pt x="20962" y="11454"/>
                  <a:pt x="20985" y="11460"/>
                </a:cubicBezTo>
              </a:path>
              <a:path w="4342" h="4838">
                <a:moveTo>
                  <a:pt x="20638" y="11212"/>
                </a:moveTo>
                <a:cubicBezTo>
                  <a:pt x="20638" y="11187"/>
                  <a:pt x="20638" y="11179"/>
                  <a:pt x="20638" y="11162"/>
                </a:cubicBezTo>
                <a:cubicBezTo>
                  <a:pt x="20572" y="11184"/>
                  <a:pt x="20631" y="11304"/>
                  <a:pt x="20638" y="11361"/>
                </a:cubicBezTo>
                <a:cubicBezTo>
                  <a:pt x="20645" y="11416"/>
                  <a:pt x="20657" y="11462"/>
                  <a:pt x="20662" y="11509"/>
                </a:cubicBezTo>
                <a:cubicBezTo>
                  <a:pt x="20668" y="11561"/>
                  <a:pt x="20682" y="11545"/>
                  <a:pt x="20687" y="11584"/>
                </a:cubicBezTo>
                <a:cubicBezTo>
                  <a:pt x="20687" y="11592"/>
                  <a:pt x="20687" y="11601"/>
                  <a:pt x="20687" y="116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24800" y="4929120"/>
            <a:ext cx="436320" cy="206280"/>
          </a:xfrm>
          <a:custGeom>
            <a:avLst/>
            <a:gdLst/>
            <a:ahLst/>
            <a:rect l="l" t="t" r="r" b="b"/>
            <a:pathLst>
              <a:path w="1216" h="572">
                <a:moveTo>
                  <a:pt x="18678" y="13742"/>
                </a:moveTo>
                <a:cubicBezTo>
                  <a:pt x="18875" y="13692"/>
                  <a:pt x="19158" y="13658"/>
                  <a:pt x="19149" y="13965"/>
                </a:cubicBezTo>
                <a:cubicBezTo>
                  <a:pt x="19139" y="14283"/>
                  <a:pt x="18898" y="14286"/>
                  <a:pt x="18703" y="14188"/>
                </a:cubicBezTo>
                <a:cubicBezTo>
                  <a:pt x="18828" y="13986"/>
                  <a:pt x="18985" y="14075"/>
                  <a:pt x="19174" y="14213"/>
                </a:cubicBezTo>
                <a:cubicBezTo>
                  <a:pt x="19191" y="14230"/>
                  <a:pt x="19207" y="14246"/>
                  <a:pt x="19224" y="14263"/>
                </a:cubicBezTo>
              </a:path>
              <a:path w="1216" h="572">
                <a:moveTo>
                  <a:pt x="19496" y="13791"/>
                </a:moveTo>
                <a:cubicBezTo>
                  <a:pt x="19631" y="13964"/>
                  <a:pt x="19743" y="14240"/>
                  <a:pt x="19893" y="14089"/>
                </a:cubicBezTo>
              </a:path>
              <a:path w="1216" h="572">
                <a:moveTo>
                  <a:pt x="19769" y="13940"/>
                </a:moveTo>
                <a:cubicBezTo>
                  <a:pt x="19623" y="14108"/>
                  <a:pt x="19594" y="14146"/>
                  <a:pt x="19496" y="14238"/>
                </a:cubicBezTo>
              </a:path>
              <a:path w="1216" h="572">
                <a:moveTo>
                  <a:pt x="19496" y="14238"/>
                </a:moveTo>
                <a:lnTo>
                  <a:pt x="19496" y="1423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321000"/>
            <a:ext cx="1330560" cy="393840"/>
          </a:xfrm>
          <a:custGeom>
            <a:avLst/>
            <a:gdLst/>
            <a:ahLst/>
            <a:rect l="l" t="t" r="r" b="b"/>
            <a:pathLst>
              <a:path w="3697" h="1093">
                <a:moveTo>
                  <a:pt x="16297" y="9550"/>
                </a:moveTo>
                <a:cubicBezTo>
                  <a:pt x="16431" y="9491"/>
                  <a:pt x="16665" y="9482"/>
                  <a:pt x="16818" y="9451"/>
                </a:cubicBezTo>
                <a:cubicBezTo>
                  <a:pt x="16909" y="9433"/>
                  <a:pt x="16916" y="9424"/>
                  <a:pt x="16966" y="9426"/>
                </a:cubicBezTo>
                <a:cubicBezTo>
                  <a:pt x="16947" y="9711"/>
                  <a:pt x="16877" y="9985"/>
                  <a:pt x="16842" y="10269"/>
                </a:cubicBezTo>
                <a:cubicBezTo>
                  <a:pt x="16842" y="10286"/>
                  <a:pt x="16842" y="10302"/>
                  <a:pt x="16842" y="10319"/>
                </a:cubicBezTo>
              </a:path>
              <a:path w="3697" h="1093">
                <a:moveTo>
                  <a:pt x="17363" y="9451"/>
                </a:moveTo>
                <a:cubicBezTo>
                  <a:pt x="17483" y="9638"/>
                  <a:pt x="17590" y="9828"/>
                  <a:pt x="17735" y="9996"/>
                </a:cubicBezTo>
              </a:path>
              <a:path w="3697" h="1093">
                <a:moveTo>
                  <a:pt x="17611" y="9351"/>
                </a:moveTo>
                <a:cubicBezTo>
                  <a:pt x="17585" y="9614"/>
                  <a:pt x="17536" y="9851"/>
                  <a:pt x="17438" y="10096"/>
                </a:cubicBezTo>
                <a:cubicBezTo>
                  <a:pt x="17418" y="10136"/>
                  <a:pt x="17399" y="10152"/>
                  <a:pt x="17438" y="10145"/>
                </a:cubicBezTo>
              </a:path>
              <a:path w="3697" h="1093">
                <a:moveTo>
                  <a:pt x="17909" y="9376"/>
                </a:moveTo>
                <a:cubicBezTo>
                  <a:pt x="18058" y="9376"/>
                  <a:pt x="18206" y="9376"/>
                  <a:pt x="18355" y="9376"/>
                </a:cubicBezTo>
                <a:cubicBezTo>
                  <a:pt x="18355" y="9514"/>
                  <a:pt x="18339" y="9607"/>
                  <a:pt x="18306" y="9748"/>
                </a:cubicBezTo>
                <a:cubicBezTo>
                  <a:pt x="18272" y="9896"/>
                  <a:pt x="18256" y="9998"/>
                  <a:pt x="18256" y="10145"/>
                </a:cubicBezTo>
              </a:path>
              <a:path w="3697" h="1093">
                <a:moveTo>
                  <a:pt x="18728" y="9426"/>
                </a:moveTo>
                <a:cubicBezTo>
                  <a:pt x="18857" y="9524"/>
                  <a:pt x="19019" y="9707"/>
                  <a:pt x="19124" y="9847"/>
                </a:cubicBezTo>
                <a:cubicBezTo>
                  <a:pt x="19124" y="9872"/>
                  <a:pt x="19124" y="9880"/>
                  <a:pt x="19149" y="9872"/>
                </a:cubicBezTo>
              </a:path>
              <a:path w="3697" h="1093">
                <a:moveTo>
                  <a:pt x="19174" y="9426"/>
                </a:moveTo>
                <a:cubicBezTo>
                  <a:pt x="19065" y="9624"/>
                  <a:pt x="18969" y="9816"/>
                  <a:pt x="18876" y="10021"/>
                </a:cubicBezTo>
              </a:path>
              <a:path w="3697" h="1093">
                <a:moveTo>
                  <a:pt x="19472" y="9252"/>
                </a:moveTo>
                <a:cubicBezTo>
                  <a:pt x="19648" y="9238"/>
                  <a:pt x="19795" y="9230"/>
                  <a:pt x="19968" y="9252"/>
                </a:cubicBezTo>
                <a:cubicBezTo>
                  <a:pt x="19976" y="9252"/>
                  <a:pt x="19985" y="9252"/>
                  <a:pt x="19993" y="9252"/>
                </a:cubicBezTo>
                <a:cubicBezTo>
                  <a:pt x="19956" y="9474"/>
                  <a:pt x="19892" y="9696"/>
                  <a:pt x="19869" y="9922"/>
                </a:cubicBezTo>
                <a:cubicBezTo>
                  <a:pt x="19863" y="9981"/>
                  <a:pt x="19832" y="10059"/>
                  <a:pt x="19869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3732120"/>
            <a:ext cx="1017360" cy="465120"/>
          </a:xfrm>
          <a:custGeom>
            <a:avLst/>
            <a:gdLst/>
            <a:ahLst/>
            <a:rect l="l" t="t" r="r" b="b"/>
            <a:pathLst>
              <a:path w="2829" h="1291">
                <a:moveTo>
                  <a:pt x="17041" y="10517"/>
                </a:moveTo>
                <a:cubicBezTo>
                  <a:pt x="17028" y="10595"/>
                  <a:pt x="17004" y="10674"/>
                  <a:pt x="16966" y="10740"/>
                </a:cubicBezTo>
                <a:cubicBezTo>
                  <a:pt x="17151" y="10771"/>
                  <a:pt x="17293" y="10717"/>
                  <a:pt x="17487" y="10691"/>
                </a:cubicBezTo>
                <a:cubicBezTo>
                  <a:pt x="17643" y="10670"/>
                  <a:pt x="17796" y="10650"/>
                  <a:pt x="17934" y="10691"/>
                </a:cubicBezTo>
                <a:cubicBezTo>
                  <a:pt x="17942" y="10691"/>
                  <a:pt x="17951" y="10691"/>
                  <a:pt x="17959" y="10691"/>
                </a:cubicBezTo>
                <a:cubicBezTo>
                  <a:pt x="17959" y="10568"/>
                  <a:pt x="17968" y="10490"/>
                  <a:pt x="18008" y="10368"/>
                </a:cubicBezTo>
                <a:cubicBezTo>
                  <a:pt x="18008" y="10376"/>
                  <a:pt x="18008" y="10385"/>
                  <a:pt x="18008" y="10393"/>
                </a:cubicBezTo>
              </a:path>
              <a:path w="2829" h="1291">
                <a:moveTo>
                  <a:pt x="16991" y="11137"/>
                </a:moveTo>
                <a:cubicBezTo>
                  <a:pt x="16977" y="11221"/>
                  <a:pt x="16940" y="11313"/>
                  <a:pt x="16892" y="11361"/>
                </a:cubicBezTo>
                <a:cubicBezTo>
                  <a:pt x="17017" y="11371"/>
                  <a:pt x="17137" y="11385"/>
                  <a:pt x="17264" y="11385"/>
                </a:cubicBezTo>
                <a:cubicBezTo>
                  <a:pt x="17272" y="11385"/>
                  <a:pt x="17281" y="11385"/>
                  <a:pt x="17289" y="11385"/>
                </a:cubicBezTo>
              </a:path>
              <a:path w="2829" h="1291">
                <a:moveTo>
                  <a:pt x="17289" y="11038"/>
                </a:moveTo>
                <a:cubicBezTo>
                  <a:pt x="17271" y="11222"/>
                  <a:pt x="17264" y="11399"/>
                  <a:pt x="17264" y="11584"/>
                </a:cubicBezTo>
                <a:cubicBezTo>
                  <a:pt x="17264" y="11635"/>
                  <a:pt x="17265" y="11650"/>
                  <a:pt x="17289" y="11584"/>
                </a:cubicBezTo>
              </a:path>
              <a:path w="2829" h="1291">
                <a:moveTo>
                  <a:pt x="17835" y="11187"/>
                </a:moveTo>
                <a:cubicBezTo>
                  <a:pt x="17875" y="11091"/>
                  <a:pt x="17852" y="11080"/>
                  <a:pt x="17810" y="10988"/>
                </a:cubicBezTo>
                <a:cubicBezTo>
                  <a:pt x="17607" y="11012"/>
                  <a:pt x="17410" y="11097"/>
                  <a:pt x="17487" y="11311"/>
                </a:cubicBezTo>
                <a:cubicBezTo>
                  <a:pt x="17588" y="11267"/>
                  <a:pt x="17785" y="11137"/>
                  <a:pt x="17835" y="11137"/>
                </a:cubicBezTo>
                <a:cubicBezTo>
                  <a:pt x="17835" y="11287"/>
                  <a:pt x="17785" y="11525"/>
                  <a:pt x="17810" y="11658"/>
                </a:cubicBezTo>
                <a:cubicBezTo>
                  <a:pt x="17818" y="11658"/>
                  <a:pt x="17827" y="11658"/>
                  <a:pt x="17835" y="11658"/>
                </a:cubicBezTo>
              </a:path>
              <a:path w="2829" h="1291">
                <a:moveTo>
                  <a:pt x="18281" y="11162"/>
                </a:moveTo>
                <a:cubicBezTo>
                  <a:pt x="18637" y="11148"/>
                  <a:pt x="18971" y="11059"/>
                  <a:pt x="19323" y="11013"/>
                </a:cubicBezTo>
                <a:cubicBezTo>
                  <a:pt x="19477" y="10993"/>
                  <a:pt x="19579" y="10993"/>
                  <a:pt x="19720" y="10988"/>
                </a:cubicBezTo>
                <a:cubicBezTo>
                  <a:pt x="19720" y="10845"/>
                  <a:pt x="19704" y="10709"/>
                  <a:pt x="19695" y="10567"/>
                </a:cubicBezTo>
                <a:cubicBezTo>
                  <a:pt x="19690" y="10489"/>
                  <a:pt x="19686" y="10460"/>
                  <a:pt x="1967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40840" y="4795920"/>
            <a:ext cx="249120" cy="258840"/>
          </a:xfrm>
          <a:custGeom>
            <a:avLst/>
            <a:gdLst/>
            <a:ahLst/>
            <a:rect l="l" t="t" r="r" b="b"/>
            <a:pathLst>
              <a:path w="695" h="720">
                <a:moveTo>
                  <a:pt x="23168" y="13370"/>
                </a:moveTo>
                <a:cubicBezTo>
                  <a:pt x="23334" y="13322"/>
                  <a:pt x="23488" y="13246"/>
                  <a:pt x="23614" y="13444"/>
                </a:cubicBezTo>
                <a:cubicBezTo>
                  <a:pt x="23752" y="13661"/>
                  <a:pt x="23604" y="14053"/>
                  <a:pt x="23316" y="14015"/>
                </a:cubicBezTo>
                <a:cubicBezTo>
                  <a:pt x="23283" y="13990"/>
                  <a:pt x="23250" y="13965"/>
                  <a:pt x="23217" y="13940"/>
                </a:cubicBezTo>
                <a:cubicBezTo>
                  <a:pt x="23440" y="13752"/>
                  <a:pt x="23547" y="13770"/>
                  <a:pt x="23788" y="13965"/>
                </a:cubicBezTo>
                <a:cubicBezTo>
                  <a:pt x="23813" y="13990"/>
                  <a:pt x="23837" y="14014"/>
                  <a:pt x="23862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65920" y="5000760"/>
            <a:ext cx="2749320" cy="839520"/>
          </a:xfrm>
          <a:custGeom>
            <a:avLst/>
            <a:gdLst/>
            <a:ahLst/>
            <a:rect l="l" t="t" r="r" b="b"/>
            <a:pathLst>
              <a:path w="7640" h="2332">
                <a:moveTo>
                  <a:pt x="16570" y="13891"/>
                </a:moveTo>
                <a:cubicBezTo>
                  <a:pt x="16711" y="14047"/>
                  <a:pt x="16814" y="14245"/>
                  <a:pt x="16942" y="14387"/>
                </a:cubicBezTo>
              </a:path>
              <a:path w="7640" h="2332">
                <a:moveTo>
                  <a:pt x="16867" y="14039"/>
                </a:moveTo>
                <a:cubicBezTo>
                  <a:pt x="16780" y="14178"/>
                  <a:pt x="16678" y="14399"/>
                  <a:pt x="16644" y="14362"/>
                </a:cubicBezTo>
              </a:path>
              <a:path w="7640" h="2332">
                <a:moveTo>
                  <a:pt x="24209" y="16222"/>
                </a:moveTo>
                <a:lnTo>
                  <a:pt x="24209" y="16222"/>
                </a:lnTo>
              </a:path>
              <a:path w="7640" h="2332">
                <a:moveTo>
                  <a:pt x="24209" y="16222"/>
                </a:moveTo>
                <a:lnTo>
                  <a:pt x="24209" y="1622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02080" y="3276720"/>
            <a:ext cx="554040" cy="1724040"/>
          </a:xfrm>
          <a:custGeom>
            <a:avLst/>
            <a:gdLst/>
            <a:ahLst/>
            <a:rect l="l" t="t" r="r" b="b"/>
            <a:pathLst>
              <a:path w="1539" h="4789">
                <a:moveTo>
                  <a:pt x="12229" y="9599"/>
                </a:moveTo>
                <a:cubicBezTo>
                  <a:pt x="12436" y="9663"/>
                  <a:pt x="12549" y="9627"/>
                  <a:pt x="12750" y="9575"/>
                </a:cubicBezTo>
                <a:cubicBezTo>
                  <a:pt x="12758" y="9575"/>
                  <a:pt x="12766" y="9575"/>
                  <a:pt x="12774" y="9575"/>
                </a:cubicBezTo>
                <a:cubicBezTo>
                  <a:pt x="12802" y="9616"/>
                  <a:pt x="12649" y="9982"/>
                  <a:pt x="12626" y="10071"/>
                </a:cubicBezTo>
                <a:cubicBezTo>
                  <a:pt x="12594" y="10194"/>
                  <a:pt x="12551" y="10520"/>
                  <a:pt x="12551" y="10393"/>
                </a:cubicBezTo>
              </a:path>
              <a:path w="1539" h="4789">
                <a:moveTo>
                  <a:pt x="13097" y="9203"/>
                </a:moveTo>
                <a:cubicBezTo>
                  <a:pt x="13157" y="9171"/>
                  <a:pt x="13283" y="9053"/>
                  <a:pt x="13345" y="9128"/>
                </a:cubicBezTo>
                <a:cubicBezTo>
                  <a:pt x="13415" y="9212"/>
                  <a:pt x="13378" y="9367"/>
                  <a:pt x="13246" y="9376"/>
                </a:cubicBezTo>
                <a:cubicBezTo>
                  <a:pt x="13238" y="9368"/>
                  <a:pt x="13229" y="9359"/>
                  <a:pt x="13221" y="9351"/>
                </a:cubicBezTo>
                <a:cubicBezTo>
                  <a:pt x="13316" y="9367"/>
                  <a:pt x="13406" y="9385"/>
                  <a:pt x="13395" y="9500"/>
                </a:cubicBezTo>
                <a:cubicBezTo>
                  <a:pt x="13386" y="9595"/>
                  <a:pt x="13224" y="9651"/>
                  <a:pt x="13146" y="9674"/>
                </a:cubicBezTo>
                <a:cubicBezTo>
                  <a:pt x="13138" y="9674"/>
                  <a:pt x="13130" y="9674"/>
                  <a:pt x="13122" y="9674"/>
                </a:cubicBezTo>
              </a:path>
              <a:path w="1539" h="4789">
                <a:moveTo>
                  <a:pt x="12477" y="13072"/>
                </a:moveTo>
                <a:cubicBezTo>
                  <a:pt x="12467" y="13012"/>
                  <a:pt x="12436" y="13082"/>
                  <a:pt x="12502" y="12973"/>
                </a:cubicBezTo>
                <a:cubicBezTo>
                  <a:pt x="12543" y="12906"/>
                  <a:pt x="12624" y="12855"/>
                  <a:pt x="12700" y="12824"/>
                </a:cubicBezTo>
                <a:cubicBezTo>
                  <a:pt x="12794" y="12785"/>
                  <a:pt x="12813" y="12806"/>
                  <a:pt x="12898" y="12849"/>
                </a:cubicBezTo>
                <a:cubicBezTo>
                  <a:pt x="12987" y="12894"/>
                  <a:pt x="12973" y="12930"/>
                  <a:pt x="13022" y="12998"/>
                </a:cubicBezTo>
                <a:cubicBezTo>
                  <a:pt x="13060" y="13051"/>
                  <a:pt x="13053" y="13088"/>
                  <a:pt x="13022" y="13146"/>
                </a:cubicBezTo>
                <a:cubicBezTo>
                  <a:pt x="12958" y="13265"/>
                  <a:pt x="12833" y="13276"/>
                  <a:pt x="12725" y="13345"/>
                </a:cubicBezTo>
                <a:cubicBezTo>
                  <a:pt x="12581" y="13437"/>
                  <a:pt x="12447" y="13585"/>
                  <a:pt x="12378" y="13742"/>
                </a:cubicBezTo>
                <a:cubicBezTo>
                  <a:pt x="12357" y="13826"/>
                  <a:pt x="12355" y="13845"/>
                  <a:pt x="12328" y="13891"/>
                </a:cubicBezTo>
                <a:cubicBezTo>
                  <a:pt x="12365" y="13848"/>
                  <a:pt x="12453" y="13701"/>
                  <a:pt x="12526" y="13667"/>
                </a:cubicBezTo>
                <a:cubicBezTo>
                  <a:pt x="12708" y="13583"/>
                  <a:pt x="12798" y="13682"/>
                  <a:pt x="12948" y="13742"/>
                </a:cubicBezTo>
                <a:cubicBezTo>
                  <a:pt x="13108" y="13806"/>
                  <a:pt x="13174" y="13650"/>
                  <a:pt x="13271" y="13543"/>
                </a:cubicBezTo>
              </a:path>
              <a:path w="1539" h="4789">
                <a:moveTo>
                  <a:pt x="13395" y="12353"/>
                </a:moveTo>
                <a:cubicBezTo>
                  <a:pt x="13378" y="12405"/>
                  <a:pt x="13329" y="12502"/>
                  <a:pt x="13295" y="12576"/>
                </a:cubicBezTo>
                <a:cubicBezTo>
                  <a:pt x="13264" y="12644"/>
                  <a:pt x="13264" y="12697"/>
                  <a:pt x="13271" y="12750"/>
                </a:cubicBezTo>
                <a:cubicBezTo>
                  <a:pt x="13283" y="12839"/>
                  <a:pt x="13351" y="12860"/>
                  <a:pt x="13444" y="12874"/>
                </a:cubicBezTo>
                <a:cubicBezTo>
                  <a:pt x="13514" y="12884"/>
                  <a:pt x="13658" y="12890"/>
                  <a:pt x="13717" y="12849"/>
                </a:cubicBezTo>
                <a:cubicBezTo>
                  <a:pt x="13783" y="12803"/>
                  <a:pt x="13789" y="12745"/>
                  <a:pt x="13717" y="12700"/>
                </a:cubicBezTo>
                <a:cubicBezTo>
                  <a:pt x="13662" y="12665"/>
                  <a:pt x="13589" y="12714"/>
                  <a:pt x="13568" y="12750"/>
                </a:cubicBezTo>
                <a:cubicBezTo>
                  <a:pt x="13542" y="12795"/>
                  <a:pt x="13543" y="12804"/>
                  <a:pt x="13543" y="128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61000" y="4956120"/>
            <a:ext cx="3063960" cy="1152720"/>
          </a:xfrm>
          <a:custGeom>
            <a:avLst/>
            <a:gdLst/>
            <a:ahLst/>
            <a:rect l="l" t="t" r="r" b="b"/>
            <a:pathLst>
              <a:path w="8509" h="3200">
                <a:moveTo>
                  <a:pt x="15875" y="14114"/>
                </a:moveTo>
                <a:cubicBezTo>
                  <a:pt x="15795" y="14218"/>
                  <a:pt x="15934" y="13936"/>
                  <a:pt x="16024" y="13915"/>
                </a:cubicBezTo>
                <a:cubicBezTo>
                  <a:pt x="16074" y="13923"/>
                  <a:pt x="16123" y="13932"/>
                  <a:pt x="16173" y="13940"/>
                </a:cubicBezTo>
                <a:cubicBezTo>
                  <a:pt x="16412" y="14295"/>
                  <a:pt x="16375" y="14484"/>
                  <a:pt x="15900" y="14585"/>
                </a:cubicBezTo>
                <a:cubicBezTo>
                  <a:pt x="15842" y="14585"/>
                  <a:pt x="15784" y="14585"/>
                  <a:pt x="15726" y="14585"/>
                </a:cubicBezTo>
                <a:cubicBezTo>
                  <a:pt x="15893" y="14342"/>
                  <a:pt x="16094" y="14351"/>
                  <a:pt x="16371" y="14486"/>
                </a:cubicBezTo>
                <a:cubicBezTo>
                  <a:pt x="16452" y="14546"/>
                  <a:pt x="16474" y="14591"/>
                  <a:pt x="16495" y="14511"/>
                </a:cubicBezTo>
              </a:path>
              <a:path w="8509" h="3200">
                <a:moveTo>
                  <a:pt x="17239" y="13841"/>
                </a:moveTo>
                <a:cubicBezTo>
                  <a:pt x="17372" y="13764"/>
                  <a:pt x="17556" y="13720"/>
                  <a:pt x="17661" y="13891"/>
                </a:cubicBezTo>
                <a:cubicBezTo>
                  <a:pt x="17798" y="14115"/>
                  <a:pt x="17569" y="14456"/>
                  <a:pt x="17314" y="14461"/>
                </a:cubicBezTo>
                <a:cubicBezTo>
                  <a:pt x="17264" y="14436"/>
                  <a:pt x="17215" y="14412"/>
                  <a:pt x="17165" y="14387"/>
                </a:cubicBezTo>
                <a:cubicBezTo>
                  <a:pt x="17232" y="14160"/>
                  <a:pt x="17331" y="14192"/>
                  <a:pt x="17537" y="14312"/>
                </a:cubicBezTo>
                <a:cubicBezTo>
                  <a:pt x="17578" y="14337"/>
                  <a:pt x="17620" y="14362"/>
                  <a:pt x="17661" y="14387"/>
                </a:cubicBezTo>
              </a:path>
              <a:path w="8509" h="3200">
                <a:moveTo>
                  <a:pt x="16073" y="14784"/>
                </a:moveTo>
                <a:cubicBezTo>
                  <a:pt x="16070" y="14805"/>
                  <a:pt x="16090" y="14911"/>
                  <a:pt x="16098" y="14982"/>
                </a:cubicBezTo>
                <a:cubicBezTo>
                  <a:pt x="16098" y="14990"/>
                  <a:pt x="16098" y="14999"/>
                  <a:pt x="16098" y="15007"/>
                </a:cubicBezTo>
                <a:cubicBezTo>
                  <a:pt x="16317" y="15007"/>
                  <a:pt x="16502" y="14943"/>
                  <a:pt x="16718" y="14908"/>
                </a:cubicBezTo>
                <a:cubicBezTo>
                  <a:pt x="16762" y="14901"/>
                  <a:pt x="17053" y="14900"/>
                  <a:pt x="17115" y="14858"/>
                </a:cubicBezTo>
                <a:cubicBezTo>
                  <a:pt x="17139" y="14842"/>
                  <a:pt x="17182" y="14599"/>
                  <a:pt x="17190" y="14560"/>
                </a:cubicBezTo>
                <a:cubicBezTo>
                  <a:pt x="17190" y="14536"/>
                  <a:pt x="17190" y="14527"/>
                  <a:pt x="17190" y="14511"/>
                </a:cubicBezTo>
              </a:path>
              <a:path w="8509" h="3200">
                <a:moveTo>
                  <a:pt x="16644" y="15379"/>
                </a:moveTo>
                <a:cubicBezTo>
                  <a:pt x="16629" y="15472"/>
                  <a:pt x="16619" y="15534"/>
                  <a:pt x="16619" y="15627"/>
                </a:cubicBezTo>
                <a:cubicBezTo>
                  <a:pt x="16738" y="15615"/>
                  <a:pt x="16992" y="15619"/>
                  <a:pt x="17090" y="15553"/>
                </a:cubicBezTo>
                <a:cubicBezTo>
                  <a:pt x="17090" y="15545"/>
                  <a:pt x="17090" y="15536"/>
                  <a:pt x="17090" y="15528"/>
                </a:cubicBezTo>
              </a:path>
              <a:path w="8509" h="3200">
                <a:moveTo>
                  <a:pt x="17016" y="15255"/>
                </a:moveTo>
                <a:cubicBezTo>
                  <a:pt x="17025" y="15425"/>
                  <a:pt x="16997" y="15875"/>
                  <a:pt x="17115" y="15776"/>
                </a:cubicBezTo>
              </a:path>
              <a:path w="8509" h="3200">
                <a:moveTo>
                  <a:pt x="17363" y="15478"/>
                </a:moveTo>
                <a:cubicBezTo>
                  <a:pt x="17648" y="15383"/>
                  <a:pt x="17931" y="15268"/>
                  <a:pt x="18231" y="15230"/>
                </a:cubicBezTo>
                <a:cubicBezTo>
                  <a:pt x="18347" y="15215"/>
                  <a:pt x="18339" y="15261"/>
                  <a:pt x="18380" y="15180"/>
                </a:cubicBezTo>
                <a:cubicBezTo>
                  <a:pt x="18495" y="14952"/>
                  <a:pt x="18601" y="14733"/>
                  <a:pt x="18728" y="14511"/>
                </a:cubicBezTo>
                <a:cubicBezTo>
                  <a:pt x="18752" y="14469"/>
                  <a:pt x="18763" y="14432"/>
                  <a:pt x="18777" y="14412"/>
                </a:cubicBezTo>
              </a:path>
              <a:path w="8509" h="3200">
                <a:moveTo>
                  <a:pt x="18678" y="15503"/>
                </a:moveTo>
                <a:cubicBezTo>
                  <a:pt x="18531" y="15552"/>
                  <a:pt x="18462" y="15586"/>
                  <a:pt x="18355" y="15701"/>
                </a:cubicBezTo>
                <a:cubicBezTo>
                  <a:pt x="18426" y="15708"/>
                  <a:pt x="18946" y="15732"/>
                  <a:pt x="18827" y="15900"/>
                </a:cubicBezTo>
                <a:cubicBezTo>
                  <a:pt x="18686" y="15993"/>
                  <a:pt x="18647" y="16026"/>
                  <a:pt x="18529" y="15999"/>
                </a:cubicBezTo>
                <a:cubicBezTo>
                  <a:pt x="18502" y="15847"/>
                  <a:pt x="18515" y="15748"/>
                  <a:pt x="18678" y="15652"/>
                </a:cubicBezTo>
                <a:cubicBezTo>
                  <a:pt x="18695" y="15644"/>
                  <a:pt x="18711" y="15635"/>
                  <a:pt x="18728" y="15627"/>
                </a:cubicBezTo>
              </a:path>
              <a:path w="8509" h="3200">
                <a:moveTo>
                  <a:pt x="19124" y="15627"/>
                </a:moveTo>
                <a:cubicBezTo>
                  <a:pt x="19363" y="15577"/>
                  <a:pt x="19602" y="15542"/>
                  <a:pt x="19844" y="15503"/>
                </a:cubicBezTo>
                <a:cubicBezTo>
                  <a:pt x="19956" y="15485"/>
                  <a:pt x="19968" y="15487"/>
                  <a:pt x="19993" y="15429"/>
                </a:cubicBezTo>
                <a:cubicBezTo>
                  <a:pt x="20125" y="15120"/>
                  <a:pt x="20207" y="14774"/>
                  <a:pt x="20340" y="14461"/>
                </a:cubicBezTo>
                <a:cubicBezTo>
                  <a:pt x="20435" y="14238"/>
                  <a:pt x="20387" y="14371"/>
                  <a:pt x="20414" y="14263"/>
                </a:cubicBezTo>
              </a:path>
              <a:path w="8509" h="3200">
                <a:moveTo>
                  <a:pt x="19918" y="15652"/>
                </a:moveTo>
                <a:cubicBezTo>
                  <a:pt x="19931" y="15798"/>
                  <a:pt x="19939" y="15972"/>
                  <a:pt x="19993" y="16098"/>
                </a:cubicBezTo>
              </a:path>
              <a:path w="8509" h="3200">
                <a:moveTo>
                  <a:pt x="20265" y="15528"/>
                </a:moveTo>
                <a:cubicBezTo>
                  <a:pt x="20227" y="15633"/>
                  <a:pt x="20180" y="15859"/>
                  <a:pt x="20241" y="15974"/>
                </a:cubicBezTo>
                <a:cubicBezTo>
                  <a:pt x="20356" y="16192"/>
                  <a:pt x="20525" y="15873"/>
                  <a:pt x="20563" y="15801"/>
                </a:cubicBezTo>
                <a:cubicBezTo>
                  <a:pt x="20541" y="15736"/>
                  <a:pt x="20543" y="15711"/>
                  <a:pt x="20489" y="15726"/>
                </a:cubicBezTo>
                <a:cubicBezTo>
                  <a:pt x="20382" y="15792"/>
                  <a:pt x="20155" y="15952"/>
                  <a:pt x="20365" y="15974"/>
                </a:cubicBezTo>
              </a:path>
              <a:path w="8509" h="3200">
                <a:moveTo>
                  <a:pt x="20861" y="15677"/>
                </a:moveTo>
                <a:cubicBezTo>
                  <a:pt x="21012" y="15618"/>
                  <a:pt x="21287" y="15581"/>
                  <a:pt x="21406" y="15478"/>
                </a:cubicBezTo>
                <a:cubicBezTo>
                  <a:pt x="21502" y="15394"/>
                  <a:pt x="21570" y="14958"/>
                  <a:pt x="21605" y="14833"/>
                </a:cubicBezTo>
                <a:cubicBezTo>
                  <a:pt x="21628" y="14750"/>
                  <a:pt x="21688" y="14508"/>
                  <a:pt x="21729" y="14436"/>
                </a:cubicBezTo>
              </a:path>
              <a:path w="8509" h="3200">
                <a:moveTo>
                  <a:pt x="21382" y="15825"/>
                </a:moveTo>
                <a:cubicBezTo>
                  <a:pt x="21415" y="15807"/>
                  <a:pt x="21736" y="15635"/>
                  <a:pt x="21729" y="15776"/>
                </a:cubicBezTo>
                <a:cubicBezTo>
                  <a:pt x="21725" y="15861"/>
                  <a:pt x="21589" y="15914"/>
                  <a:pt x="21530" y="15949"/>
                </a:cubicBezTo>
                <a:cubicBezTo>
                  <a:pt x="21538" y="15941"/>
                  <a:pt x="21547" y="15933"/>
                  <a:pt x="21555" y="15925"/>
                </a:cubicBezTo>
                <a:cubicBezTo>
                  <a:pt x="21598" y="15927"/>
                  <a:pt x="21972" y="15991"/>
                  <a:pt x="21779" y="16098"/>
                </a:cubicBezTo>
                <a:cubicBezTo>
                  <a:pt x="21573" y="16212"/>
                  <a:pt x="21449" y="16118"/>
                  <a:pt x="21506" y="15949"/>
                </a:cubicBezTo>
              </a:path>
              <a:path w="8509" h="3200">
                <a:moveTo>
                  <a:pt x="21977" y="15677"/>
                </a:moveTo>
                <a:cubicBezTo>
                  <a:pt x="22064" y="15739"/>
                  <a:pt x="22331" y="15914"/>
                  <a:pt x="22151" y="16049"/>
                </a:cubicBezTo>
                <a:cubicBezTo>
                  <a:pt x="22051" y="16073"/>
                  <a:pt x="22018" y="16081"/>
                  <a:pt x="21952" y="16049"/>
                </a:cubicBezTo>
                <a:cubicBezTo>
                  <a:pt x="22117" y="15970"/>
                  <a:pt x="22237" y="15914"/>
                  <a:pt x="22349" y="16073"/>
                </a:cubicBezTo>
              </a:path>
              <a:path w="8509" h="3200">
                <a:moveTo>
                  <a:pt x="22597" y="15776"/>
                </a:moveTo>
                <a:cubicBezTo>
                  <a:pt x="22777" y="15716"/>
                  <a:pt x="23022" y="15627"/>
                  <a:pt x="23217" y="15627"/>
                </a:cubicBezTo>
                <a:cubicBezTo>
                  <a:pt x="23225" y="15635"/>
                  <a:pt x="23234" y="15644"/>
                  <a:pt x="23242" y="15652"/>
                </a:cubicBezTo>
                <a:cubicBezTo>
                  <a:pt x="23280" y="15352"/>
                  <a:pt x="23382" y="15074"/>
                  <a:pt x="23465" y="14784"/>
                </a:cubicBezTo>
                <a:cubicBezTo>
                  <a:pt x="23482" y="14726"/>
                  <a:pt x="23489" y="14639"/>
                  <a:pt x="23515" y="14585"/>
                </a:cubicBezTo>
                <a:cubicBezTo>
                  <a:pt x="23515" y="14560"/>
                  <a:pt x="23515" y="14552"/>
                  <a:pt x="23540" y="14560"/>
                </a:cubicBezTo>
              </a:path>
              <a:path w="8509" h="3200">
                <a:moveTo>
                  <a:pt x="23068" y="15949"/>
                </a:moveTo>
                <a:cubicBezTo>
                  <a:pt x="23048" y="16132"/>
                  <a:pt x="22975" y="16286"/>
                  <a:pt x="23019" y="16470"/>
                </a:cubicBezTo>
                <a:cubicBezTo>
                  <a:pt x="23052" y="16608"/>
                  <a:pt x="23265" y="16700"/>
                  <a:pt x="23366" y="16570"/>
                </a:cubicBezTo>
                <a:cubicBezTo>
                  <a:pt x="23427" y="16492"/>
                  <a:pt x="23434" y="16372"/>
                  <a:pt x="23416" y="16297"/>
                </a:cubicBezTo>
                <a:cubicBezTo>
                  <a:pt x="23323" y="16317"/>
                  <a:pt x="23199" y="16376"/>
                  <a:pt x="23192" y="16495"/>
                </a:cubicBezTo>
                <a:cubicBezTo>
                  <a:pt x="23226" y="16529"/>
                  <a:pt x="23248" y="16538"/>
                  <a:pt x="23292" y="16520"/>
                </a:cubicBezTo>
              </a:path>
              <a:path w="8509" h="3200">
                <a:moveTo>
                  <a:pt x="23440" y="15999"/>
                </a:moveTo>
                <a:cubicBezTo>
                  <a:pt x="23440" y="16082"/>
                  <a:pt x="23440" y="16098"/>
                  <a:pt x="23440" y="16148"/>
                </a:cubicBezTo>
                <a:cubicBezTo>
                  <a:pt x="23597" y="16135"/>
                  <a:pt x="23702" y="16101"/>
                  <a:pt x="23837" y="16024"/>
                </a:cubicBezTo>
              </a:path>
              <a:path w="8509" h="3200">
                <a:moveTo>
                  <a:pt x="23713" y="15875"/>
                </a:moveTo>
                <a:cubicBezTo>
                  <a:pt x="23713" y="16047"/>
                  <a:pt x="23745" y="16181"/>
                  <a:pt x="23788" y="16346"/>
                </a:cubicBezTo>
                <a:cubicBezTo>
                  <a:pt x="23806" y="16420"/>
                  <a:pt x="23814" y="16427"/>
                  <a:pt x="23812" y="16470"/>
                </a:cubicBezTo>
              </a:path>
              <a:path w="8509" h="3200">
                <a:moveTo>
                  <a:pt x="22547" y="16942"/>
                </a:moveTo>
                <a:cubicBezTo>
                  <a:pt x="22934" y="16981"/>
                  <a:pt x="23295" y="16936"/>
                  <a:pt x="23664" y="16793"/>
                </a:cubicBezTo>
                <a:cubicBezTo>
                  <a:pt x="23999" y="16663"/>
                  <a:pt x="24252" y="16356"/>
                  <a:pt x="24234" y="15974"/>
                </a:cubicBezTo>
                <a:cubicBezTo>
                  <a:pt x="24218" y="15648"/>
                  <a:pt x="23651" y="15608"/>
                  <a:pt x="23440" y="15627"/>
                </a:cubicBezTo>
                <a:cubicBezTo>
                  <a:pt x="22932" y="15674"/>
                  <a:pt x="22591" y="15933"/>
                  <a:pt x="22448" y="16421"/>
                </a:cubicBezTo>
                <a:cubicBezTo>
                  <a:pt x="22424" y="16662"/>
                  <a:pt x="22411" y="16739"/>
                  <a:pt x="22572" y="16842"/>
                </a:cubicBezTo>
                <a:cubicBezTo>
                  <a:pt x="23073" y="16842"/>
                  <a:pt x="23323" y="16736"/>
                  <a:pt x="23788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91160" y="4867200"/>
            <a:ext cx="1795680" cy="268200"/>
          </a:xfrm>
          <a:custGeom>
            <a:avLst/>
            <a:gdLst/>
            <a:ahLst/>
            <a:rect l="l" t="t" r="r" b="b"/>
            <a:pathLst>
              <a:path w="4987" h="745">
                <a:moveTo>
                  <a:pt x="18033" y="13940"/>
                </a:moveTo>
                <a:cubicBezTo>
                  <a:pt x="18150" y="14070"/>
                  <a:pt x="18223" y="14143"/>
                  <a:pt x="18380" y="14213"/>
                </a:cubicBezTo>
              </a:path>
              <a:path w="4987" h="745">
                <a:moveTo>
                  <a:pt x="18380" y="13841"/>
                </a:moveTo>
                <a:cubicBezTo>
                  <a:pt x="18306" y="13971"/>
                  <a:pt x="18204" y="14166"/>
                  <a:pt x="18107" y="14263"/>
                </a:cubicBezTo>
              </a:path>
              <a:path w="4987" h="745">
                <a:moveTo>
                  <a:pt x="21084" y="13643"/>
                </a:moveTo>
                <a:cubicBezTo>
                  <a:pt x="21186" y="13783"/>
                  <a:pt x="21244" y="13880"/>
                  <a:pt x="21382" y="13965"/>
                </a:cubicBezTo>
              </a:path>
              <a:path w="4987" h="745">
                <a:moveTo>
                  <a:pt x="21233" y="13791"/>
                </a:moveTo>
                <a:cubicBezTo>
                  <a:pt x="21122" y="13946"/>
                  <a:pt x="21093" y="13985"/>
                  <a:pt x="21034" y="14089"/>
                </a:cubicBezTo>
              </a:path>
              <a:path w="4987" h="745">
                <a:moveTo>
                  <a:pt x="22523" y="13519"/>
                </a:moveTo>
                <a:cubicBezTo>
                  <a:pt x="22673" y="13645"/>
                  <a:pt x="22849" y="13850"/>
                  <a:pt x="23019" y="13866"/>
                </a:cubicBezTo>
              </a:path>
              <a:path w="4987" h="745">
                <a:moveTo>
                  <a:pt x="22845" y="13618"/>
                </a:moveTo>
                <a:cubicBezTo>
                  <a:pt x="22733" y="13755"/>
                  <a:pt x="22620" y="13846"/>
                  <a:pt x="22647" y="139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7080" y="4857840"/>
            <a:ext cx="206280" cy="23328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21704" y="13494"/>
                </a:moveTo>
                <a:cubicBezTo>
                  <a:pt x="21930" y="13494"/>
                  <a:pt x="22113" y="13522"/>
                  <a:pt x="22101" y="13816"/>
                </a:cubicBezTo>
                <a:cubicBezTo>
                  <a:pt x="22087" y="14160"/>
                  <a:pt x="21814" y="14163"/>
                  <a:pt x="21605" y="14039"/>
                </a:cubicBezTo>
                <a:cubicBezTo>
                  <a:pt x="21854" y="13938"/>
                  <a:pt x="21945" y="13967"/>
                  <a:pt x="22175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96120" y="4867200"/>
            <a:ext cx="1778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20265" y="13543"/>
                </a:moveTo>
                <a:cubicBezTo>
                  <a:pt x="20506" y="13544"/>
                  <a:pt x="20825" y="13638"/>
                  <a:pt x="20712" y="13965"/>
                </a:cubicBezTo>
                <a:cubicBezTo>
                  <a:pt x="20638" y="14181"/>
                  <a:pt x="20486" y="14135"/>
                  <a:pt x="20340" y="14089"/>
                </a:cubicBezTo>
                <a:cubicBezTo>
                  <a:pt x="20468" y="13936"/>
                  <a:pt x="20549" y="14011"/>
                  <a:pt x="20762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153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739" y="14312"/>
                </a:moveTo>
                <a:lnTo>
                  <a:pt x="7739" y="1431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Students will identify and find the value of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your partner (person sitting next to you) complete the Powers and Exponents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sure to show your work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6      16 -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41:46Z</dcterms:created>
  <dc:creator>deanne mcgrath</dc:creator>
  <dc:description/>
  <dc:language>en-US</dc:language>
  <cp:lastModifiedBy>deanne mcgrath</cp:lastModifiedBy>
  <dcterms:modified xsi:type="dcterms:W3CDTF">2011-09-07T19:26:11Z</dcterms:modified>
  <cp:revision>4</cp:revision>
  <dc:subject/>
  <dc:title>Warm-up:</dc:title>
</cp:coreProperties>
</file>